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054-44A1-4B8C-ABA3-B9D9FD12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234-2933-4900-97F5-6E417932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336-AA61-479C-87A8-22766312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F9F-2E1F-4D4B-BB49-5F3C87B8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832-EB6B-45D7-88F8-CD0A726E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63F-2A17-46F7-8B82-EBC58EC5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6FD-2A5E-42E9-939E-60073EF5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7DF-73A2-44DA-B134-59C46CD0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EDE-F931-47F8-AB3D-C8E76BDD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2C4-A927-4FFD-AEAD-5AE6B756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926-ED9D-41F1-BE95-5EFADF88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CE2-9536-4BA4-97D7-BE7E17D9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C7DD92-07C9-433E-81C1-EA8C2E929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univ-fcomte.fr/RECHERCHE/P7/Cumuli/cumuli.htm" TargetMode="External"/><Relationship Id="rId2" Type="http://schemas.openxmlformats.org/officeDocument/2006/relationships/hyperlink" Target="http://lib.univ-fcomte.fr/RECHERCHE/P7/Cumuli/cumuli.htm" TargetMode="External"/><Relationship Id="rId3" Type="http://schemas.openxmlformats.org/officeDocument/2006/relationships/hyperlink" Target="http://lib.univ-fcomte.fr/RECHERCHE/P7/Cumuli/cumuli.htm" TargetMode="External"/><Relationship Id="rId4" Type="http://schemas.openxmlformats.org/officeDocument/2006/relationships/hyperlink" Target="http://lib.univ-fcomte.fr/RECHERCHE/P7/Cumuli/cumuli.htm" TargetMode="External"/><Relationship Id="rId5" Type="http://schemas.openxmlformats.org/officeDocument/2006/relationships/hyperlink" Target="http://lib.univ-fcomte.fr/RECHERCHE/P7/Cumuli/cumuli.htm" TargetMode="External"/><Relationship Id="rId6" Type="http://schemas.openxmlformats.org/officeDocument/2006/relationships/hyperlink" Target="http://lib.univ-fcomte.fr/RECHERCHE/P7/Cumuli/cumuli.htm" TargetMode="External"/><Relationship Id="rId7" Type="http://schemas.openxmlformats.org/officeDocument/2006/relationships/hyperlink" Target="http://lib.univ-fcomte.fr/RECHERCHE/P7/Cumuli/cumuli.htm" TargetMode="External"/><Relationship Id="rId8" Type="http://schemas.openxmlformats.org/officeDocument/2006/relationships/hyperlink" Target="http://lib.univ-fcomte.fr/RECHERCHE/P7/Cumuli/cumuli.htm" TargetMode="External"/><Relationship Id="rId9" Type="http://schemas.openxmlformats.org/officeDocument/2006/relationships/hyperlink" Target="http://lib.univ-fcomte.fr/RECHERCHE/P7/Cumuli/cumuli.htm" TargetMode="External"/><Relationship Id="rId10" Type="http://schemas.openxmlformats.org/officeDocument/2006/relationships/hyperlink" Target="http://lib.univ-fcomte.fr/RECHERCHE/P7/Cumuli/cumuli.htm" TargetMode="External"/><Relationship Id="rId11" Type="http://schemas.openxmlformats.org/officeDocument/2006/relationships/hyperlink" Target="http://lib.univ-fcomte.fr/RECHERCHE/P7/Cumuli/cumuli.htm" TargetMode="External"/><Relationship Id="rId12" Type="http://schemas.openxmlformats.org/officeDocument/2006/relationships/hyperlink" Target="http://lib.univ-fcomte.fr/RECHERCHE/P7/Cumuli/cumuli.htm" TargetMode="External"/><Relationship Id="rId13" Type="http://schemas.openxmlformats.org/officeDocument/2006/relationships/hyperlink" Target="http://lib.univ-fcomte.fr/RECHERCHE/P7/Cumuli/cumuli.htm" TargetMode="External"/><Relationship Id="rId14" Type="http://schemas.openxmlformats.org/officeDocument/2006/relationships/hyperlink" Target="http://lib.univ-fcomte.fr/RECHERCHE/P7/Cumuli/cumuli.htm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CUMU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666520"/>
            <a:ext cx="7512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truction d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oire du gr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 da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a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960" y="5943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ristophe Reffay, LIFC, Janvi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5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48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51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96880" y="3236760"/>
            <a:ext cx="4402440" cy="1224000"/>
            <a:chOff x="1496880" y="3236760"/>
            <a:chExt cx="4402440" cy="1224000"/>
          </a:xfrm>
        </p:grpSpPr>
        <p:sp>
          <p:nvSpPr>
            <p:cNvPr id="255" name=""/>
            <p:cNvSpPr/>
            <p:nvPr/>
          </p:nvSpPr>
          <p:spPr>
            <a:xfrm>
              <a:off x="4059360" y="3587760"/>
              <a:ext cx="1839960" cy="873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2280" y="323676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44680" y="2273400"/>
            <a:ext cx="8146440" cy="2371320"/>
            <a:chOff x="1444680" y="2273400"/>
            <a:chExt cx="8146440" cy="2371320"/>
          </a:xfrm>
        </p:grpSpPr>
        <p:sp>
          <p:nvSpPr>
            <p:cNvPr id="259" name=""/>
            <p:cNvSpPr/>
            <p:nvPr/>
          </p:nvSpPr>
          <p:spPr>
            <a:xfrm>
              <a:off x="5530680" y="2273400"/>
              <a:ext cx="167976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2000" y="2744640"/>
              <a:ext cx="208080" cy="48924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1444680" y="2625840"/>
              <a:ext cx="8146440" cy="20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3120" y="2660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6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92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56040" y="3335400"/>
            <a:ext cx="3129840" cy="2793240"/>
            <a:chOff x="1256040" y="3335400"/>
            <a:chExt cx="3129840" cy="2793240"/>
          </a:xfrm>
        </p:grpSpPr>
        <p:sp>
          <p:nvSpPr>
            <p:cNvPr id="299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6040" y="3335400"/>
              <a:ext cx="3129840" cy="27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0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975120" y="4476600"/>
            <a:ext cx="790560" cy="822600"/>
            <a:chOff x="3975120" y="4476600"/>
            <a:chExt cx="790560" cy="822600"/>
          </a:xfrm>
        </p:grpSpPr>
        <p:grpSp>
          <p:nvGrpSpPr>
            <p:cNvPr id="305" name=""/>
            <p:cNvGrpSpPr/>
            <p:nvPr/>
          </p:nvGrpSpPr>
          <p:grpSpPr>
            <a:xfrm>
              <a:off x="3975120" y="4476600"/>
              <a:ext cx="790560" cy="822600"/>
              <a:chOff x="3975120" y="4476600"/>
              <a:chExt cx="790560" cy="822600"/>
            </a:xfrm>
          </p:grpSpPr>
          <p:sp>
            <p:nvSpPr>
              <p:cNvPr id="306" name=""/>
              <p:cNvSpPr/>
              <p:nvPr/>
            </p:nvSpPr>
            <p:spPr>
              <a:xfrm>
                <a:off x="3975120" y="4476600"/>
                <a:ext cx="790560" cy="822600"/>
              </a:xfrm>
              <a:custGeom>
                <a:avLst/>
                <a:gdLst/>
                <a:ahLst/>
                <a:rect l="l" t="t" r="r" b="b"/>
                <a:pathLst>
                  <a:path w="498" h="518">
                    <a:moveTo>
                      <a:pt x="0" y="147"/>
                    </a:moveTo>
                    <a:lnTo>
                      <a:pt x="151" y="0"/>
                    </a:lnTo>
                    <a:lnTo>
                      <a:pt x="345" y="0"/>
                    </a:lnTo>
                    <a:lnTo>
                      <a:pt x="497" y="147"/>
                    </a:lnTo>
                    <a:lnTo>
                      <a:pt x="497" y="360"/>
                    </a:lnTo>
                    <a:lnTo>
                      <a:pt x="345" y="517"/>
                    </a:lnTo>
                    <a:lnTo>
                      <a:pt x="151" y="517"/>
                    </a:lnTo>
                    <a:lnTo>
                      <a:pt x="0" y="360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1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1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0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0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067280" y="4707000"/>
              <a:ext cx="604800" cy="347760"/>
              <a:chOff x="4067280" y="4707000"/>
              <a:chExt cx="604800" cy="347760"/>
            </a:xfrm>
          </p:grpSpPr>
          <p:sp>
            <p:nvSpPr>
              <p:cNvPr id="310" name=""/>
              <p:cNvSpPr/>
              <p:nvPr/>
            </p:nvSpPr>
            <p:spPr>
              <a:xfrm>
                <a:off x="4537080" y="4707000"/>
                <a:ext cx="135000" cy="347760"/>
              </a:xfrm>
              <a:custGeom>
                <a:avLst/>
                <a:gdLst/>
                <a:ahLst/>
                <a:rect l="l" t="t" r="r" b="b"/>
                <a:pathLst>
                  <a:path w="85" h="219">
                    <a:moveTo>
                      <a:pt x="0" y="0"/>
                    </a:moveTo>
                    <a:lnTo>
                      <a:pt x="58" y="0"/>
                    </a:lnTo>
                    <a:lnTo>
                      <a:pt x="84" y="34"/>
                    </a:lnTo>
                    <a:lnTo>
                      <a:pt x="84" y="114"/>
                    </a:lnTo>
                    <a:lnTo>
                      <a:pt x="58" y="148"/>
                    </a:lnTo>
                    <a:lnTo>
                      <a:pt x="34" y="148"/>
                    </a:lnTo>
                    <a:lnTo>
                      <a:pt x="34" y="218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3920" y="4707000"/>
                <a:ext cx="149400" cy="347760"/>
              </a:xfrm>
              <a:custGeom>
                <a:avLst/>
                <a:gdLst/>
                <a:ahLst/>
                <a:rect l="l" t="t" r="r" b="b"/>
                <a:pathLst>
                  <a:path w="94" h="219">
                    <a:moveTo>
                      <a:pt x="25" y="0"/>
                    </a:moveTo>
                    <a:lnTo>
                      <a:pt x="67" y="0"/>
                    </a:lnTo>
                    <a:lnTo>
                      <a:pt x="93" y="34"/>
                    </a:lnTo>
                    <a:lnTo>
                      <a:pt x="93" y="183"/>
                    </a:lnTo>
                    <a:lnTo>
                      <a:pt x="67" y="218"/>
                    </a:lnTo>
                    <a:lnTo>
                      <a:pt x="25" y="218"/>
                    </a:lnTo>
                    <a:lnTo>
                      <a:pt x="0" y="186"/>
                    </a:lnTo>
                    <a:lnTo>
                      <a:pt x="0" y="3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67280" y="4707000"/>
                <a:ext cx="136440" cy="34776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21" y="0"/>
                    </a:moveTo>
                    <a:lnTo>
                      <a:pt x="59" y="0"/>
                    </a:lnTo>
                    <a:lnTo>
                      <a:pt x="85" y="34"/>
                    </a:lnTo>
                    <a:lnTo>
                      <a:pt x="85" y="73"/>
                    </a:lnTo>
                    <a:lnTo>
                      <a:pt x="53" y="73"/>
                    </a:lnTo>
                    <a:lnTo>
                      <a:pt x="53" y="45"/>
                    </a:lnTo>
                    <a:lnTo>
                      <a:pt x="31" y="45"/>
                    </a:lnTo>
                    <a:lnTo>
                      <a:pt x="31" y="93"/>
                    </a:lnTo>
                    <a:lnTo>
                      <a:pt x="59" y="93"/>
                    </a:lnTo>
                    <a:lnTo>
                      <a:pt x="85" y="121"/>
                    </a:lnTo>
                    <a:lnTo>
                      <a:pt x="85" y="186"/>
                    </a:lnTo>
                    <a:lnTo>
                      <a:pt x="62" y="218"/>
                    </a:lnTo>
                    <a:lnTo>
                      <a:pt x="21" y="218"/>
                    </a:lnTo>
                    <a:lnTo>
                      <a:pt x="0" y="186"/>
                    </a:lnTo>
                    <a:lnTo>
                      <a:pt x="0" y="148"/>
                    </a:lnTo>
                    <a:lnTo>
                      <a:pt x="31" y="148"/>
                    </a:lnTo>
                    <a:lnTo>
                      <a:pt x="31" y="175"/>
                    </a:lnTo>
                    <a:lnTo>
                      <a:pt x="53" y="175"/>
                    </a:lnTo>
                    <a:lnTo>
                      <a:pt x="53" y="127"/>
                    </a:lnTo>
                    <a:lnTo>
                      <a:pt x="24" y="127"/>
                    </a:lnTo>
                    <a:lnTo>
                      <a:pt x="0" y="100"/>
                    </a:lnTo>
                    <a:lnTo>
                      <a:pt x="0" y="34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27480" y="4707000"/>
                <a:ext cx="125280" cy="347760"/>
              </a:xfrm>
              <a:custGeom>
                <a:avLst/>
                <a:gdLst/>
                <a:ahLst/>
                <a:rect l="l" t="t" r="r" b="b"/>
                <a:pathLst>
                  <a:path w="79" h="219">
                    <a:moveTo>
                      <a:pt x="0" y="0"/>
                    </a:moveTo>
                    <a:lnTo>
                      <a:pt x="78" y="0"/>
                    </a:lnTo>
                    <a:lnTo>
                      <a:pt x="78" y="45"/>
                    </a:lnTo>
                    <a:lnTo>
                      <a:pt x="56" y="45"/>
                    </a:lnTo>
                    <a:lnTo>
                      <a:pt x="56" y="218"/>
                    </a:lnTo>
                    <a:lnTo>
                      <a:pt x="21" y="218"/>
                    </a:lnTo>
                    <a:lnTo>
                      <a:pt x="21" y="45"/>
                    </a:lnTo>
                    <a:lnTo>
                      <a:pt x="0" y="4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19720" y="4780080"/>
                <a:ext cx="38160" cy="201600"/>
              </a:xfrm>
              <a:custGeom>
                <a:avLst/>
                <a:gdLst/>
                <a:ahLst/>
                <a:rect l="l" t="t" r="r" b="b"/>
                <a:pathLst>
                  <a:path w="24" h="127">
                    <a:moveTo>
                      <a:pt x="0" y="0"/>
                    </a:moveTo>
                    <a:lnTo>
                      <a:pt x="23" y="0"/>
                    </a:lnTo>
                    <a:lnTo>
                      <a:pt x="23" y="126"/>
                    </a:lnTo>
                    <a:lnTo>
                      <a:pt x="0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1080" y="4780080"/>
                <a:ext cx="31680" cy="9180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0" y="0"/>
                    </a:moveTo>
                    <a:lnTo>
                      <a:pt x="19" y="0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5934240" y="4968720"/>
            <a:ext cx="106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7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4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5021280" y="2587680"/>
            <a:ext cx="774720" cy="6984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159520" y="2809440"/>
            <a:ext cx="860400" cy="809640"/>
          </a:xfrm>
          <a:prstGeom prst="line">
            <a:avLst/>
          </a:prstGeom>
          <a:ln w="25560">
            <a:solidFill>
              <a:srgbClr val="cc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47280" y="3533760"/>
            <a:ext cx="3233880" cy="1863720"/>
            <a:chOff x="1547280" y="3533760"/>
            <a:chExt cx="3233880" cy="1863720"/>
          </a:xfrm>
        </p:grpSpPr>
        <p:sp>
          <p:nvSpPr>
            <p:cNvPr id="347" name=""/>
            <p:cNvSpPr/>
            <p:nvPr/>
          </p:nvSpPr>
          <p:spPr>
            <a:xfrm flipH="1">
              <a:off x="2820960" y="3635280"/>
              <a:ext cx="1890720" cy="460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957400" y="3651120"/>
              <a:ext cx="1771920" cy="1047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3940200"/>
              <a:ext cx="112068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547280" y="3533760"/>
              <a:ext cx="3208680" cy="13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506960" y="2683080"/>
            <a:ext cx="2835000" cy="4990680"/>
            <a:chOff x="1506960" y="2683080"/>
            <a:chExt cx="2835000" cy="4990680"/>
          </a:xfrm>
        </p:grpSpPr>
        <p:sp>
          <p:nvSpPr>
            <p:cNvPr id="353" name=""/>
            <p:cNvSpPr/>
            <p:nvPr/>
          </p:nvSpPr>
          <p:spPr>
            <a:xfrm rot="10800000">
              <a:off x="2562120" y="2793960"/>
              <a:ext cx="9968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1506960" y="2682720"/>
              <a:ext cx="2835000" cy="23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1516320" y="2746800"/>
              <a:ext cx="2781360" cy="492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927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956680" y="2209680"/>
            <a:ext cx="2718720" cy="458280"/>
            <a:chOff x="2956680" y="2209680"/>
            <a:chExt cx="2718720" cy="458280"/>
          </a:xfrm>
        </p:grpSpPr>
        <p:sp>
          <p:nvSpPr>
            <p:cNvPr id="357" name=""/>
            <p:cNvSpPr/>
            <p:nvPr/>
          </p:nvSpPr>
          <p:spPr>
            <a:xfrm>
              <a:off x="2956680" y="2209680"/>
              <a:ext cx="187956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nthèse ok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2476440"/>
              <a:ext cx="63684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688000" y="227340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8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6718320" y="2755800"/>
            <a:ext cx="6480" cy="12448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360" y="3995640"/>
            <a:ext cx="1330920" cy="641160"/>
          </a:xfrm>
          <a:prstGeom prst="rect">
            <a:avLst/>
          </a:prstGeom>
          <a:solidFill>
            <a:srgbClr val="ecddea"/>
          </a:solidFill>
          <a:ln w="1260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’é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109840" y="3666600"/>
            <a:ext cx="919080" cy="37476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60800" y="2896920"/>
            <a:ext cx="2872800" cy="3352680"/>
            <a:chOff x="4060800" y="2896920"/>
            <a:chExt cx="2872800" cy="3352680"/>
          </a:xfrm>
        </p:grpSpPr>
        <p:sp>
          <p:nvSpPr>
            <p:cNvPr id="38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10000" y="4338720"/>
            <a:ext cx="1455840" cy="1514160"/>
            <a:chOff x="3510000" y="4338720"/>
            <a:chExt cx="1455840" cy="1514160"/>
          </a:xfrm>
        </p:grpSpPr>
        <p:sp>
          <p:nvSpPr>
            <p:cNvPr id="390" name=""/>
            <p:cNvSpPr/>
            <p:nvPr/>
          </p:nvSpPr>
          <p:spPr>
            <a:xfrm>
              <a:off x="3958560" y="4759200"/>
              <a:ext cx="35712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4920" y="5211720"/>
              <a:ext cx="1330920" cy="641160"/>
            </a:xfrm>
            <a:prstGeom prst="rect">
              <a:avLst/>
            </a:prstGeom>
            <a:solidFill>
              <a:srgbClr val="ecddea"/>
            </a:solidFill>
            <a:ln w="1260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ppor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’é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10000" y="4338720"/>
              <a:ext cx="1047600" cy="366840"/>
            </a:xfrm>
            <a:prstGeom prst="rect">
              <a:avLst/>
            </a:prstGeom>
            <a:solidFill>
              <a:srgbClr val="ff33ff"/>
            </a:solidFill>
            <a:ln w="255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9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3131640" y="2896920"/>
            <a:ext cx="3801960" cy="3352680"/>
            <a:chOff x="3131640" y="2896920"/>
            <a:chExt cx="3801960" cy="3352680"/>
          </a:xfrm>
        </p:grpSpPr>
        <p:sp>
          <p:nvSpPr>
            <p:cNvPr id="41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31640" y="4378320"/>
              <a:ext cx="147420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108400" y="3603600"/>
            <a:ext cx="825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4320" y="2936880"/>
            <a:ext cx="3267000" cy="587520"/>
            <a:chOff x="1444320" y="2936880"/>
            <a:chExt cx="3267000" cy="587520"/>
          </a:xfrm>
        </p:grpSpPr>
        <p:sp>
          <p:nvSpPr>
            <p:cNvPr id="422" name=""/>
            <p:cNvSpPr/>
            <p:nvPr/>
          </p:nvSpPr>
          <p:spPr>
            <a:xfrm flipH="1" flipV="1">
              <a:off x="1444320" y="2936880"/>
              <a:ext cx="3267000" cy="58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0640" y="3002040"/>
              <a:ext cx="1293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0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37240" y="233676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64280" y="2795760"/>
            <a:ext cx="723240" cy="15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48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4889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5281920" y="2222640"/>
            <a:ext cx="1409040" cy="27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0"/>
                </a:moveTo>
                <a:arcTo wR="10800" hR="10800" stAng="-5407738" swAng="5403696"/>
                <a:lnTo>
                  <a:pt x="10800" y="10800"/>
                </a:lnTo>
                <a:close/>
              </a:path>
              <a:path fill="none" w="21600" h="21600">
                <a:moveTo>
                  <a:pt x="10776" y="0"/>
                </a:moveTo>
                <a:arcTo wR="10800" hR="10800" stAng="-5407738" swAng="5403696"/>
              </a:path>
            </a:pathLst>
          </a:custGeom>
          <a:noFill/>
          <a:ln cap="rnd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18320" y="2755800"/>
            <a:ext cx="384120" cy="5302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3086280"/>
            <a:ext cx="963936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ib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univ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comte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RECHERCHE/P7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veloppement rapide de la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mergence effective de nouveaux modèles d’apprentissage mettant l’accent su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travail en gr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onomie de l’appre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développement de comptétences (en + des Connaissa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cratisation de l’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limites des systèmes actu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1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papier ne permet aucun travail de groupe ni développement de compé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en ligne souffre de carence en ressources humaines (Formateurs, tuteurs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interactions entre apprenants (en ligne) sont souvent mal encadrées, parfois stériles et en générale sans intérêt pour le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it mal mesurer la progression du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7800" y="198108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r, évaluer, susciter, coordonner et mémoriser les échanges asynchrones entre le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en compte les niveaux de compétence et d’intérêt des différent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érer en ligne la connaissance du groupe plutôt que la connaissance du formate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odules propo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ur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ase de données (profils des acte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ire Aux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lyse automatisée des questions (L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valuation des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7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5800" y="2562120"/>
              <a:ext cx="12870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29200" y="2273400"/>
            <a:ext cx="93672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118120" y="2666520"/>
            <a:ext cx="1073160" cy="762120"/>
            <a:chOff x="5118120" y="2666520"/>
            <a:chExt cx="1073160" cy="762120"/>
          </a:xfrm>
        </p:grpSpPr>
        <p:sp>
          <p:nvSpPr>
            <p:cNvPr id="79" name=""/>
            <p:cNvSpPr/>
            <p:nvPr/>
          </p:nvSpPr>
          <p:spPr>
            <a:xfrm flipV="1">
              <a:off x="5118120" y="2666520"/>
              <a:ext cx="825480" cy="76212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191280" y="2742840"/>
              <a:ext cx="0" cy="6094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046760" y="1988640"/>
            <a:ext cx="1981080" cy="15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23485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234851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01920" y="2362320"/>
            <a:ext cx="6273000" cy="1249920"/>
            <a:chOff x="1501920" y="2362320"/>
            <a:chExt cx="6273000" cy="1249920"/>
          </a:xfrm>
        </p:grpSpPr>
        <p:sp>
          <p:nvSpPr>
            <p:cNvPr id="84" name=""/>
            <p:cNvSpPr/>
            <p:nvPr/>
          </p:nvSpPr>
          <p:spPr>
            <a:xfrm>
              <a:off x="1501920" y="2362320"/>
              <a:ext cx="627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8840" y="3214800"/>
              <a:ext cx="1472760" cy="397440"/>
            </a:xfrm>
            <a:prstGeom prst="rect">
              <a:avLst/>
            </a:prstGeom>
            <a:solidFill>
              <a:srgbClr val="99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items NQ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920880"/>
            <a:ext cx="1797480" cy="1885680"/>
            <a:chOff x="304920" y="920880"/>
            <a:chExt cx="1797480" cy="1885680"/>
          </a:xfrm>
        </p:grpSpPr>
        <p:sp>
          <p:nvSpPr>
            <p:cNvPr id="88" name=""/>
            <p:cNvSpPr/>
            <p:nvPr/>
          </p:nvSpPr>
          <p:spPr>
            <a:xfrm>
              <a:off x="304920" y="1765440"/>
              <a:ext cx="1168200" cy="1041120"/>
            </a:xfrm>
            <a:prstGeom prst="ellipse">
              <a:avLst/>
            </a:prstGeom>
            <a:noFill/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120" y="2286000"/>
              <a:ext cx="0" cy="7632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427040" y="1571760"/>
              <a:ext cx="0" cy="100008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000" y="920880"/>
              <a:ext cx="1094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339933"/>
                  </a:solidFill>
                  <a:latin typeface="Times New Roman"/>
                </a:rPr>
                <a:t>RetourEt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680" y="1989000"/>
              <a:ext cx="1620720" cy="366840"/>
            </a:xfrm>
            <a:prstGeom prst="rect">
              <a:avLst/>
            </a:prstGeom>
            <a:solidFill>
              <a:srgbClr val="00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efor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2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880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5880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80324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324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7956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7956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11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14640" y="2562120"/>
              <a:ext cx="13986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18120" y="2793960"/>
            <a:ext cx="2070000" cy="635040"/>
            <a:chOff x="5118120" y="2793960"/>
            <a:chExt cx="2070000" cy="635040"/>
          </a:xfrm>
        </p:grpSpPr>
        <p:sp>
          <p:nvSpPr>
            <p:cNvPr id="119" name=""/>
            <p:cNvSpPr/>
            <p:nvPr/>
          </p:nvSpPr>
          <p:spPr>
            <a:xfrm flipV="1">
              <a:off x="5118120" y="2793960"/>
              <a:ext cx="712800" cy="635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792840" y="2793960"/>
              <a:ext cx="395280" cy="527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4046760" y="1988640"/>
            <a:ext cx="1981080" cy="1518840"/>
            <a:chOff x="4046760" y="1988640"/>
            <a:chExt cx="1981080" cy="1518840"/>
          </a:xfrm>
        </p:grpSpPr>
        <p:sp>
          <p:nvSpPr>
            <p:cNvPr id="125" name=""/>
            <p:cNvSpPr/>
            <p:nvPr/>
          </p:nvSpPr>
          <p:spPr>
            <a:xfrm rot="10800000">
              <a:off x="4046760" y="1988640"/>
              <a:ext cx="1981080" cy="15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3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3485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3520" y="3154320"/>
              <a:ext cx="54936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Li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05440" y="3699000"/>
            <a:ext cx="1875600" cy="1319760"/>
            <a:chOff x="5005440" y="3699000"/>
            <a:chExt cx="1875600" cy="1319760"/>
          </a:xfrm>
        </p:grpSpPr>
        <p:sp>
          <p:nvSpPr>
            <p:cNvPr id="128" name=""/>
            <p:cNvSpPr/>
            <p:nvPr/>
          </p:nvSpPr>
          <p:spPr>
            <a:xfrm>
              <a:off x="5914080" y="4043520"/>
              <a:ext cx="966960" cy="9752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 Ques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5440" y="3699000"/>
              <a:ext cx="876240" cy="66672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63560" y="3666960"/>
            <a:ext cx="3151080" cy="2320920"/>
            <a:chOff x="1663560" y="3666960"/>
            <a:chExt cx="3151080" cy="2320920"/>
          </a:xfrm>
        </p:grpSpPr>
        <p:sp>
          <p:nvSpPr>
            <p:cNvPr id="131" name=""/>
            <p:cNvSpPr/>
            <p:nvPr/>
          </p:nvSpPr>
          <p:spPr>
            <a:xfrm flipH="1">
              <a:off x="2820600" y="3683160"/>
              <a:ext cx="1994040" cy="412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63560" y="3711600"/>
              <a:ext cx="1160640" cy="2276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3120" y="5505480"/>
              <a:ext cx="129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iveau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0400" y="394020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14520" y="2175120"/>
            <a:ext cx="6396840" cy="1396440"/>
            <a:chOff x="1514520" y="2175120"/>
            <a:chExt cx="6396840" cy="1396440"/>
          </a:xfrm>
        </p:grpSpPr>
        <p:sp>
          <p:nvSpPr>
            <p:cNvPr id="137" name=""/>
            <p:cNvSpPr/>
            <p:nvPr/>
          </p:nvSpPr>
          <p:spPr>
            <a:xfrm>
              <a:off x="1514520" y="2175120"/>
              <a:ext cx="639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27200" y="3274920"/>
              <a:ext cx="129564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3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78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778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78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223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23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89864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98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23120" y="5505480"/>
            <a:ext cx="129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vea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166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169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3680" y="2273400"/>
            <a:ext cx="6739920" cy="2536560"/>
            <a:chOff x="2443680" y="2273400"/>
            <a:chExt cx="6739920" cy="2536560"/>
          </a:xfrm>
        </p:grpSpPr>
        <p:sp>
          <p:nvSpPr>
            <p:cNvPr id="174" name=""/>
            <p:cNvSpPr/>
            <p:nvPr/>
          </p:nvSpPr>
          <p:spPr>
            <a:xfrm>
              <a:off x="5826240" y="2273400"/>
              <a:ext cx="138420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6000" y="2778120"/>
              <a:ext cx="171360" cy="52380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2443680" y="2650680"/>
              <a:ext cx="673992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19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6680" y="2687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4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2064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2064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6891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91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76544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544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205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08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295200" y="3225960"/>
            <a:ext cx="7768440" cy="1365120"/>
            <a:chOff x="295200" y="3225960"/>
            <a:chExt cx="7768440" cy="1365120"/>
          </a:xfrm>
        </p:grpSpPr>
        <p:sp>
          <p:nvSpPr>
            <p:cNvPr id="214" name=""/>
            <p:cNvSpPr/>
            <p:nvPr/>
          </p:nvSpPr>
          <p:spPr>
            <a:xfrm rot="10800000">
              <a:off x="1359000" y="3397320"/>
              <a:ext cx="670464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2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48080" y="322596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0600" y="3664080"/>
              <a:ext cx="1179360" cy="927000"/>
            </a:xfrm>
            <a:prstGeom prst="rect">
              <a:avLst/>
            </a:prstGeom>
            <a:solidFill>
              <a:srgbClr val="99ffcc">
                <a:alpha val="50000"/>
              </a:srgbClr>
            </a:solidFill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200" y="3298680"/>
              <a:ext cx="63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N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1684080" y="2616120"/>
            <a:ext cx="6396840" cy="1463760"/>
            <a:chOff x="-1684080" y="2616120"/>
            <a:chExt cx="6396840" cy="1463760"/>
          </a:xfrm>
        </p:grpSpPr>
        <p:sp>
          <p:nvSpPr>
            <p:cNvPr id="219" name=""/>
            <p:cNvSpPr/>
            <p:nvPr/>
          </p:nvSpPr>
          <p:spPr>
            <a:xfrm rot="10800000">
              <a:off x="-1684080" y="2682360"/>
              <a:ext cx="6396840" cy="139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75000" y="2616120"/>
              <a:ext cx="129528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6:52:41Z</dcterms:created>
  <dc:creator>Christophe Reffay</dc:creator>
  <dc:description/>
  <dc:language>en-US</dc:language>
  <cp:lastModifiedBy>reffay</cp:lastModifiedBy>
  <cp:lastPrinted>2000-09-20T16:21:55Z</cp:lastPrinted>
  <dcterms:modified xsi:type="dcterms:W3CDTF">2001-07-05T09:17:27Z</dcterms:modified>
  <cp:revision>13</cp:revision>
  <dc:subject/>
  <dc:title>CUMULI</dc:title>
</cp:coreProperties>
</file>