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907588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BC00-BB95-4162-A96D-87FC76F7D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673E-64DF-41E8-86F5-B2E54DF9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677-FE7A-404E-A9CC-AE1EE32E4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12C6-A3B2-4DAE-8E87-F1F7A60E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0A6CE-7C9F-46B6-8762-8845EBF5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A928-2164-482F-9DED-A8AF8A18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667C-32D0-446A-A43A-A70BC17F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B91C-12AC-40BE-A78F-8AD0C942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221B-09E6-4633-94A2-5D7501D6E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D7D58-AF10-41C7-B625-A56170E2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5EB-A5EE-4856-A715-92F0B95D9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FD6C-34EF-44EA-BEFF-4E4EEE61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E2966F-0E2B-4963-8BF8-CC9822191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lib.univ-fcomte.fr/RECHERCHE/P7/Cumuli/cumuli.htm" TargetMode="External"/><Relationship Id="rId2" Type="http://schemas.openxmlformats.org/officeDocument/2006/relationships/hyperlink" Target="http://lib.univ-fcomte.fr/RECHERCHE/P7/Cumuli/cumuli.htm" TargetMode="External"/><Relationship Id="rId3" Type="http://schemas.openxmlformats.org/officeDocument/2006/relationships/hyperlink" Target="http://lib.univ-fcomte.fr/RECHERCHE/P7/Cumuli/cumuli.htm" TargetMode="External"/><Relationship Id="rId4" Type="http://schemas.openxmlformats.org/officeDocument/2006/relationships/hyperlink" Target="http://lib.univ-fcomte.fr/RECHERCHE/P7/Cumuli/cumuli.htm" TargetMode="External"/><Relationship Id="rId5" Type="http://schemas.openxmlformats.org/officeDocument/2006/relationships/hyperlink" Target="http://lib.univ-fcomte.fr/RECHERCHE/P7/Cumuli/cumuli.htm" TargetMode="External"/><Relationship Id="rId6" Type="http://schemas.openxmlformats.org/officeDocument/2006/relationships/hyperlink" Target="http://lib.univ-fcomte.fr/RECHERCHE/P7/Cumuli/cumuli.htm" TargetMode="External"/><Relationship Id="rId7" Type="http://schemas.openxmlformats.org/officeDocument/2006/relationships/hyperlink" Target="http://lib.univ-fcomte.fr/RECHERCHE/P7/Cumuli/cumuli.htm" TargetMode="External"/><Relationship Id="rId8" Type="http://schemas.openxmlformats.org/officeDocument/2006/relationships/hyperlink" Target="http://lib.univ-fcomte.fr/RECHERCHE/P7/Cumuli/cumuli.htm" TargetMode="External"/><Relationship Id="rId9" Type="http://schemas.openxmlformats.org/officeDocument/2006/relationships/hyperlink" Target="http://lib.univ-fcomte.fr/RECHERCHE/P7/Cumuli/cumuli.htm" TargetMode="External"/><Relationship Id="rId10" Type="http://schemas.openxmlformats.org/officeDocument/2006/relationships/hyperlink" Target="http://lib.univ-fcomte.fr/RECHERCHE/P7/Cumuli/cumuli.htm" TargetMode="External"/><Relationship Id="rId11" Type="http://schemas.openxmlformats.org/officeDocument/2006/relationships/hyperlink" Target="http://lib.univ-fcomte.fr/RECHERCHE/P7/Cumuli/cumuli.htm" TargetMode="External"/><Relationship Id="rId12" Type="http://schemas.openxmlformats.org/officeDocument/2006/relationships/hyperlink" Target="http://lib.univ-fcomte.fr/RECHERCHE/P7/Cumuli/cumuli.htm" TargetMode="External"/><Relationship Id="rId13" Type="http://schemas.openxmlformats.org/officeDocument/2006/relationships/hyperlink" Target="http://lib.univ-fcomte.fr/RECHERCHE/P7/Cumuli/cumuli.htm" TargetMode="External"/><Relationship Id="rId14" Type="http://schemas.openxmlformats.org/officeDocument/2006/relationships/hyperlink" Target="http://lib.univ-fcomte.fr/RECHERCHE/P7/Cumuli/cumuli.htm" TargetMode="External"/><Relationship Id="rId1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CUMULI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240" y="2666520"/>
            <a:ext cx="7512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struction d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moire du gro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 dans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terac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50960" y="5943600"/>
            <a:ext cx="693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hristophe Reffay, LIFC, Janvier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5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3972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63972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170820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820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178452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452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2820960" y="4745160"/>
            <a:ext cx="3078360" cy="335880"/>
            <a:chOff x="2820960" y="4745160"/>
            <a:chExt cx="3078360" cy="335880"/>
          </a:xfrm>
        </p:grpSpPr>
        <p:sp>
          <p:nvSpPr>
            <p:cNvPr id="248" name=""/>
            <p:cNvSpPr/>
            <p:nvPr/>
          </p:nvSpPr>
          <p:spPr>
            <a:xfrm>
              <a:off x="2820960" y="493704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677760" y="474516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251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1496880" y="3236760"/>
            <a:ext cx="4402440" cy="1224000"/>
            <a:chOff x="1496880" y="3236760"/>
            <a:chExt cx="4402440" cy="1224000"/>
          </a:xfrm>
        </p:grpSpPr>
        <p:sp>
          <p:nvSpPr>
            <p:cNvPr id="255" name=""/>
            <p:cNvSpPr/>
            <p:nvPr/>
          </p:nvSpPr>
          <p:spPr>
            <a:xfrm>
              <a:off x="4059360" y="3587760"/>
              <a:ext cx="1839960" cy="87300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852280" y="3236760"/>
              <a:ext cx="1305360" cy="335880"/>
            </a:xfrm>
            <a:prstGeom prst="rect">
              <a:avLst/>
            </a:prstGeom>
            <a:solidFill>
              <a:srgbClr val="ffcccc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96880" y="3335400"/>
              <a:ext cx="2580840" cy="6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69"/>
                </a:path>
              </a:pathLst>
            </a:custGeom>
            <a:noFill/>
            <a:ln cap="rnd" w="76320">
              <a:solidFill>
                <a:srgbClr val="cc00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1444680" y="2273400"/>
            <a:ext cx="8146440" cy="2371320"/>
            <a:chOff x="1444680" y="2273400"/>
            <a:chExt cx="8146440" cy="2371320"/>
          </a:xfrm>
        </p:grpSpPr>
        <p:sp>
          <p:nvSpPr>
            <p:cNvPr id="259" name=""/>
            <p:cNvSpPr/>
            <p:nvPr/>
          </p:nvSpPr>
          <p:spPr>
            <a:xfrm>
              <a:off x="5530680" y="2273400"/>
              <a:ext cx="1679760" cy="45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va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912000" y="2744640"/>
              <a:ext cx="208080" cy="48924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0800000">
              <a:off x="1444680" y="2625840"/>
              <a:ext cx="8146440" cy="201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ff33ff"/>
              </a:solidFill>
              <a:custDash>
                <a:ds d="499000" sp="201000"/>
              </a:custDash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83120" y="2660760"/>
              <a:ext cx="1031040" cy="3668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érêt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90600" y="3664080"/>
            <a:ext cx="1179360" cy="927000"/>
          </a:xfrm>
          <a:prstGeom prst="rect">
            <a:avLst/>
          </a:prstGeom>
          <a:solidFill>
            <a:srgbClr val="99ffcc">
              <a:alpha val="50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5200" y="32986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6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63972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63972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"/>
          <p:cNvGraphicFramePr/>
          <p:nvPr/>
        </p:nvGraphicFramePr>
        <p:xfrm>
          <a:off x="170820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0820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"/>
          <p:cNvGraphicFramePr/>
          <p:nvPr/>
        </p:nvGraphicFramePr>
        <p:xfrm>
          <a:off x="178452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8452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2820960" y="4745160"/>
            <a:ext cx="3078360" cy="335880"/>
            <a:chOff x="2820960" y="4745160"/>
            <a:chExt cx="3078360" cy="335880"/>
          </a:xfrm>
        </p:grpSpPr>
        <p:sp>
          <p:nvSpPr>
            <p:cNvPr id="292" name=""/>
            <p:cNvSpPr/>
            <p:nvPr/>
          </p:nvSpPr>
          <p:spPr>
            <a:xfrm>
              <a:off x="2820960" y="493704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677760" y="474516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4" name=""/>
          <p:cNvGraphicFramePr/>
          <p:nvPr/>
        </p:nvGraphicFramePr>
        <p:xfrm>
          <a:off x="5148360" y="3143160"/>
          <a:ext cx="64764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3143160"/>
                    <a:ext cx="6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390600" y="3664080"/>
            <a:ext cx="1179360" cy="927000"/>
          </a:xfrm>
          <a:prstGeom prst="rect">
            <a:avLst/>
          </a:prstGeom>
          <a:solidFill>
            <a:srgbClr val="99ffcc">
              <a:alpha val="50000"/>
            </a:srgbClr>
          </a:solidFill>
          <a:ln w="255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95200" y="32986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N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8" name=""/>
          <p:cNvGrpSpPr/>
          <p:nvPr/>
        </p:nvGrpSpPr>
        <p:grpSpPr>
          <a:xfrm>
            <a:off x="1256040" y="3335400"/>
            <a:ext cx="3129840" cy="2793240"/>
            <a:chOff x="1256040" y="3335400"/>
            <a:chExt cx="3129840" cy="2793240"/>
          </a:xfrm>
        </p:grpSpPr>
        <p:sp>
          <p:nvSpPr>
            <p:cNvPr id="299" name=""/>
            <p:cNvSpPr/>
            <p:nvPr/>
          </p:nvSpPr>
          <p:spPr>
            <a:xfrm>
              <a:off x="1496880" y="3335400"/>
              <a:ext cx="2580840" cy="603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576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5769"/>
                </a:path>
              </a:pathLst>
            </a:custGeom>
            <a:noFill/>
            <a:ln cap="rnd" w="76320">
              <a:solidFill>
                <a:srgbClr val="ffcc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6040" y="3335400"/>
              <a:ext cx="3129840" cy="2793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9" y="0"/>
                  </a:moveTo>
                  <a:arcTo wR="10800" hR="10800" stAng="-5403488" swAng="5403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9" y="0"/>
                  </a:moveTo>
                  <a:arcTo wR="10800" hR="10800" stAng="-5403488" swAng="5403488"/>
                </a:path>
              </a:pathLst>
            </a:custGeom>
            <a:noFill/>
            <a:ln cap="rnd" w="7632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1495440" y="2714760"/>
            <a:ext cx="3286080" cy="809640"/>
            <a:chOff x="1495440" y="2714760"/>
            <a:chExt cx="3286080" cy="809640"/>
          </a:xfrm>
        </p:grpSpPr>
        <p:sp>
          <p:nvSpPr>
            <p:cNvPr id="302" name=""/>
            <p:cNvSpPr/>
            <p:nvPr/>
          </p:nvSpPr>
          <p:spPr>
            <a:xfrm>
              <a:off x="1495440" y="2714760"/>
              <a:ext cx="3286080" cy="809640"/>
            </a:xfrm>
            <a:prstGeom prst="line">
              <a:avLst/>
            </a:prstGeom>
            <a:ln w="50760">
              <a:solidFill>
                <a:srgbClr val="ff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841760" y="2798640"/>
              <a:ext cx="220896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oumission 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3975120" y="4476600"/>
            <a:ext cx="790560" cy="822600"/>
            <a:chOff x="3975120" y="4476600"/>
            <a:chExt cx="790560" cy="822600"/>
          </a:xfrm>
        </p:grpSpPr>
        <p:grpSp>
          <p:nvGrpSpPr>
            <p:cNvPr id="305" name=""/>
            <p:cNvGrpSpPr/>
            <p:nvPr/>
          </p:nvGrpSpPr>
          <p:grpSpPr>
            <a:xfrm>
              <a:off x="3975120" y="4476600"/>
              <a:ext cx="790560" cy="822600"/>
              <a:chOff x="3975120" y="4476600"/>
              <a:chExt cx="790560" cy="822600"/>
            </a:xfrm>
          </p:grpSpPr>
          <p:sp>
            <p:nvSpPr>
              <p:cNvPr id="306" name=""/>
              <p:cNvSpPr/>
              <p:nvPr/>
            </p:nvSpPr>
            <p:spPr>
              <a:xfrm>
                <a:off x="3975120" y="4476600"/>
                <a:ext cx="790560" cy="822600"/>
              </a:xfrm>
              <a:custGeom>
                <a:avLst/>
                <a:gdLst/>
                <a:ahLst/>
                <a:rect l="l" t="t" r="r" b="b"/>
                <a:pathLst>
                  <a:path w="498" h="518">
                    <a:moveTo>
                      <a:pt x="0" y="147"/>
                    </a:moveTo>
                    <a:lnTo>
                      <a:pt x="151" y="0"/>
                    </a:lnTo>
                    <a:lnTo>
                      <a:pt x="345" y="0"/>
                    </a:lnTo>
                    <a:lnTo>
                      <a:pt x="497" y="147"/>
                    </a:lnTo>
                    <a:lnTo>
                      <a:pt x="497" y="360"/>
                    </a:lnTo>
                    <a:lnTo>
                      <a:pt x="345" y="517"/>
                    </a:lnTo>
                    <a:lnTo>
                      <a:pt x="151" y="517"/>
                    </a:lnTo>
                    <a:lnTo>
                      <a:pt x="0" y="360"/>
                    </a:lnTo>
                    <a:lnTo>
                      <a:pt x="0" y="147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027320" y="4532400"/>
                <a:ext cx="684360" cy="709560"/>
              </a:xfrm>
              <a:custGeom>
                <a:avLst/>
                <a:gdLst/>
                <a:ahLst/>
                <a:rect l="l" t="t" r="r" b="b"/>
                <a:pathLst>
                  <a:path w="431" h="447">
                    <a:moveTo>
                      <a:pt x="0" y="127"/>
                    </a:moveTo>
                    <a:lnTo>
                      <a:pt x="131" y="0"/>
                    </a:lnTo>
                    <a:lnTo>
                      <a:pt x="298" y="0"/>
                    </a:lnTo>
                    <a:lnTo>
                      <a:pt x="430" y="127"/>
                    </a:lnTo>
                    <a:lnTo>
                      <a:pt x="430" y="310"/>
                    </a:lnTo>
                    <a:lnTo>
                      <a:pt x="298" y="446"/>
                    </a:lnTo>
                    <a:lnTo>
                      <a:pt x="131" y="446"/>
                    </a:lnTo>
                    <a:lnTo>
                      <a:pt x="0" y="310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763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027320" y="4532400"/>
                <a:ext cx="684360" cy="709560"/>
              </a:xfrm>
              <a:custGeom>
                <a:avLst/>
                <a:gdLst/>
                <a:ahLst/>
                <a:rect l="l" t="t" r="r" b="b"/>
                <a:pathLst>
                  <a:path w="431" h="447">
                    <a:moveTo>
                      <a:pt x="0" y="127"/>
                    </a:moveTo>
                    <a:lnTo>
                      <a:pt x="130" y="0"/>
                    </a:lnTo>
                    <a:lnTo>
                      <a:pt x="298" y="0"/>
                    </a:lnTo>
                    <a:lnTo>
                      <a:pt x="430" y="127"/>
                    </a:lnTo>
                    <a:lnTo>
                      <a:pt x="430" y="310"/>
                    </a:lnTo>
                    <a:lnTo>
                      <a:pt x="298" y="446"/>
                    </a:lnTo>
                    <a:lnTo>
                      <a:pt x="130" y="446"/>
                    </a:lnTo>
                    <a:lnTo>
                      <a:pt x="0" y="310"/>
                    </a:lnTo>
                    <a:lnTo>
                      <a:pt x="0" y="127"/>
                    </a:lnTo>
                  </a:path>
                </a:pathLst>
              </a:custGeom>
              <a:noFill/>
              <a:ln cap="rnd" w="507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"/>
            <p:cNvGrpSpPr/>
            <p:nvPr/>
          </p:nvGrpSpPr>
          <p:grpSpPr>
            <a:xfrm>
              <a:off x="4067280" y="4707000"/>
              <a:ext cx="604800" cy="347760"/>
              <a:chOff x="4067280" y="4707000"/>
              <a:chExt cx="604800" cy="347760"/>
            </a:xfrm>
          </p:grpSpPr>
          <p:sp>
            <p:nvSpPr>
              <p:cNvPr id="310" name=""/>
              <p:cNvSpPr/>
              <p:nvPr/>
            </p:nvSpPr>
            <p:spPr>
              <a:xfrm>
                <a:off x="4537080" y="4707000"/>
                <a:ext cx="135000" cy="347760"/>
              </a:xfrm>
              <a:custGeom>
                <a:avLst/>
                <a:gdLst/>
                <a:ahLst/>
                <a:rect l="l" t="t" r="r" b="b"/>
                <a:pathLst>
                  <a:path w="85" h="219">
                    <a:moveTo>
                      <a:pt x="0" y="0"/>
                    </a:moveTo>
                    <a:lnTo>
                      <a:pt x="58" y="0"/>
                    </a:lnTo>
                    <a:lnTo>
                      <a:pt x="84" y="34"/>
                    </a:lnTo>
                    <a:lnTo>
                      <a:pt x="84" y="114"/>
                    </a:lnTo>
                    <a:lnTo>
                      <a:pt x="58" y="148"/>
                    </a:lnTo>
                    <a:lnTo>
                      <a:pt x="34" y="148"/>
                    </a:lnTo>
                    <a:lnTo>
                      <a:pt x="34" y="218"/>
                    </a:lnTo>
                    <a:lnTo>
                      <a:pt x="0" y="2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363920" y="4707000"/>
                <a:ext cx="149400" cy="347760"/>
              </a:xfrm>
              <a:custGeom>
                <a:avLst/>
                <a:gdLst/>
                <a:ahLst/>
                <a:rect l="l" t="t" r="r" b="b"/>
                <a:pathLst>
                  <a:path w="94" h="219">
                    <a:moveTo>
                      <a:pt x="25" y="0"/>
                    </a:moveTo>
                    <a:lnTo>
                      <a:pt x="67" y="0"/>
                    </a:lnTo>
                    <a:lnTo>
                      <a:pt x="93" y="34"/>
                    </a:lnTo>
                    <a:lnTo>
                      <a:pt x="93" y="183"/>
                    </a:lnTo>
                    <a:lnTo>
                      <a:pt x="67" y="218"/>
                    </a:lnTo>
                    <a:lnTo>
                      <a:pt x="25" y="218"/>
                    </a:lnTo>
                    <a:lnTo>
                      <a:pt x="0" y="186"/>
                    </a:lnTo>
                    <a:lnTo>
                      <a:pt x="0" y="34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067280" y="4707000"/>
                <a:ext cx="136440" cy="347760"/>
              </a:xfrm>
              <a:custGeom>
                <a:avLst/>
                <a:gdLst/>
                <a:ahLst/>
                <a:rect l="l" t="t" r="r" b="b"/>
                <a:pathLst>
                  <a:path w="86" h="219">
                    <a:moveTo>
                      <a:pt x="21" y="0"/>
                    </a:moveTo>
                    <a:lnTo>
                      <a:pt x="59" y="0"/>
                    </a:lnTo>
                    <a:lnTo>
                      <a:pt x="85" y="34"/>
                    </a:lnTo>
                    <a:lnTo>
                      <a:pt x="85" y="73"/>
                    </a:lnTo>
                    <a:lnTo>
                      <a:pt x="53" y="73"/>
                    </a:lnTo>
                    <a:lnTo>
                      <a:pt x="53" y="45"/>
                    </a:lnTo>
                    <a:lnTo>
                      <a:pt x="31" y="45"/>
                    </a:lnTo>
                    <a:lnTo>
                      <a:pt x="31" y="93"/>
                    </a:lnTo>
                    <a:lnTo>
                      <a:pt x="59" y="93"/>
                    </a:lnTo>
                    <a:lnTo>
                      <a:pt x="85" y="121"/>
                    </a:lnTo>
                    <a:lnTo>
                      <a:pt x="85" y="186"/>
                    </a:lnTo>
                    <a:lnTo>
                      <a:pt x="62" y="218"/>
                    </a:lnTo>
                    <a:lnTo>
                      <a:pt x="21" y="218"/>
                    </a:lnTo>
                    <a:lnTo>
                      <a:pt x="0" y="186"/>
                    </a:lnTo>
                    <a:lnTo>
                      <a:pt x="0" y="148"/>
                    </a:lnTo>
                    <a:lnTo>
                      <a:pt x="31" y="148"/>
                    </a:lnTo>
                    <a:lnTo>
                      <a:pt x="31" y="175"/>
                    </a:lnTo>
                    <a:lnTo>
                      <a:pt x="53" y="175"/>
                    </a:lnTo>
                    <a:lnTo>
                      <a:pt x="53" y="127"/>
                    </a:lnTo>
                    <a:lnTo>
                      <a:pt x="24" y="127"/>
                    </a:lnTo>
                    <a:lnTo>
                      <a:pt x="0" y="100"/>
                    </a:lnTo>
                    <a:lnTo>
                      <a:pt x="0" y="34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227480" y="4707000"/>
                <a:ext cx="125280" cy="347760"/>
              </a:xfrm>
              <a:custGeom>
                <a:avLst/>
                <a:gdLst/>
                <a:ahLst/>
                <a:rect l="l" t="t" r="r" b="b"/>
                <a:pathLst>
                  <a:path w="79" h="219">
                    <a:moveTo>
                      <a:pt x="0" y="0"/>
                    </a:moveTo>
                    <a:lnTo>
                      <a:pt x="78" y="0"/>
                    </a:lnTo>
                    <a:lnTo>
                      <a:pt x="78" y="45"/>
                    </a:lnTo>
                    <a:lnTo>
                      <a:pt x="56" y="45"/>
                    </a:lnTo>
                    <a:lnTo>
                      <a:pt x="56" y="218"/>
                    </a:lnTo>
                    <a:lnTo>
                      <a:pt x="21" y="218"/>
                    </a:lnTo>
                    <a:lnTo>
                      <a:pt x="21" y="45"/>
                    </a:lnTo>
                    <a:lnTo>
                      <a:pt x="0" y="4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419720" y="4780080"/>
                <a:ext cx="38160" cy="201600"/>
              </a:xfrm>
              <a:custGeom>
                <a:avLst/>
                <a:gdLst/>
                <a:ahLst/>
                <a:rect l="l" t="t" r="r" b="b"/>
                <a:pathLst>
                  <a:path w="24" h="127">
                    <a:moveTo>
                      <a:pt x="0" y="0"/>
                    </a:moveTo>
                    <a:lnTo>
                      <a:pt x="23" y="0"/>
                    </a:lnTo>
                    <a:lnTo>
                      <a:pt x="23" y="126"/>
                    </a:lnTo>
                    <a:lnTo>
                      <a:pt x="0" y="12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591080" y="4780080"/>
                <a:ext cx="31680" cy="91800"/>
              </a:xfrm>
              <a:custGeom>
                <a:avLst/>
                <a:gdLst/>
                <a:ahLst/>
                <a:rect l="l" t="t" r="r" b="b"/>
                <a:pathLst>
                  <a:path w="20" h="58">
                    <a:moveTo>
                      <a:pt x="0" y="0"/>
                    </a:moveTo>
                    <a:lnTo>
                      <a:pt x="19" y="0"/>
                    </a:lnTo>
                    <a:lnTo>
                      <a:pt x="19" y="57"/>
                    </a:lnTo>
                    <a:lnTo>
                      <a:pt x="0" y="5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6" name=""/>
          <p:cNvSpPr/>
          <p:nvPr/>
        </p:nvSpPr>
        <p:spPr>
          <a:xfrm>
            <a:off x="5934240" y="4968720"/>
            <a:ext cx="1064880" cy="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5826240" y="2273400"/>
            <a:ext cx="13842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7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6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2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1" name=""/>
          <p:cNvGrpSpPr/>
          <p:nvPr/>
        </p:nvGrpSpPr>
        <p:grpSpPr>
          <a:xfrm>
            <a:off x="1495440" y="2714760"/>
            <a:ext cx="3286080" cy="809640"/>
            <a:chOff x="1495440" y="2714760"/>
            <a:chExt cx="3286080" cy="809640"/>
          </a:xfrm>
        </p:grpSpPr>
        <p:sp>
          <p:nvSpPr>
            <p:cNvPr id="342" name=""/>
            <p:cNvSpPr/>
            <p:nvPr/>
          </p:nvSpPr>
          <p:spPr>
            <a:xfrm>
              <a:off x="1495440" y="2714760"/>
              <a:ext cx="3286080" cy="809640"/>
            </a:xfrm>
            <a:prstGeom prst="line">
              <a:avLst/>
            </a:prstGeom>
            <a:ln w="507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41760" y="2798640"/>
              <a:ext cx="2208960" cy="366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969696"/>
                  </a:solidFill>
                  <a:latin typeface="Times New Roman"/>
                </a:rPr>
                <a:t>Soumission 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4" name=""/>
          <p:cNvSpPr/>
          <p:nvPr/>
        </p:nvSpPr>
        <p:spPr>
          <a:xfrm flipV="1">
            <a:off x="5021280" y="2587680"/>
            <a:ext cx="774720" cy="698400"/>
          </a:xfrm>
          <a:prstGeom prst="line">
            <a:avLst/>
          </a:prstGeom>
          <a:ln w="25560">
            <a:solidFill>
              <a:srgbClr val="cc00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159520" y="2809440"/>
            <a:ext cx="860400" cy="809640"/>
          </a:xfrm>
          <a:prstGeom prst="line">
            <a:avLst/>
          </a:prstGeom>
          <a:ln w="25560">
            <a:solidFill>
              <a:srgbClr val="cc00cc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547280" y="3533760"/>
            <a:ext cx="3233880" cy="1863720"/>
            <a:chOff x="1547280" y="3533760"/>
            <a:chExt cx="3233880" cy="1863720"/>
          </a:xfrm>
        </p:grpSpPr>
        <p:sp>
          <p:nvSpPr>
            <p:cNvPr id="347" name=""/>
            <p:cNvSpPr/>
            <p:nvPr/>
          </p:nvSpPr>
          <p:spPr>
            <a:xfrm flipH="1">
              <a:off x="2820960" y="3635280"/>
              <a:ext cx="1890720" cy="46044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2923920" y="3666960"/>
              <a:ext cx="1857240" cy="1730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2957400" y="3651120"/>
              <a:ext cx="1771920" cy="10479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200400" y="3940200"/>
              <a:ext cx="112068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1547280" y="3533760"/>
              <a:ext cx="3208680" cy="13320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1506960" y="2683080"/>
            <a:ext cx="2835000" cy="4990680"/>
            <a:chOff x="1506960" y="2683080"/>
            <a:chExt cx="2835000" cy="4990680"/>
          </a:xfrm>
        </p:grpSpPr>
        <p:sp>
          <p:nvSpPr>
            <p:cNvPr id="353" name=""/>
            <p:cNvSpPr/>
            <p:nvPr/>
          </p:nvSpPr>
          <p:spPr>
            <a:xfrm rot="10800000">
              <a:off x="2562120" y="2793960"/>
              <a:ext cx="9968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0800000">
              <a:off x="1506960" y="2682720"/>
              <a:ext cx="2835000" cy="2304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10800000">
              <a:off x="1516320" y="2746800"/>
              <a:ext cx="2781360" cy="492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39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3927"/>
                </a:path>
              </a:pathLst>
            </a:custGeom>
            <a:noFill/>
            <a:ln cap="rnd"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956680" y="2209680"/>
            <a:ext cx="2718720" cy="458280"/>
            <a:chOff x="2956680" y="2209680"/>
            <a:chExt cx="2718720" cy="458280"/>
          </a:xfrm>
        </p:grpSpPr>
        <p:sp>
          <p:nvSpPr>
            <p:cNvPr id="357" name=""/>
            <p:cNvSpPr/>
            <p:nvPr/>
          </p:nvSpPr>
          <p:spPr>
            <a:xfrm>
              <a:off x="2956680" y="2209680"/>
              <a:ext cx="1879560" cy="45828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ynthèse ok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38560" y="2476440"/>
              <a:ext cx="636840" cy="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5688000" y="2273400"/>
            <a:ext cx="16938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8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4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6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8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0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4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1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6718320" y="2755800"/>
            <a:ext cx="6480" cy="124488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4360" y="3995640"/>
            <a:ext cx="1330920" cy="641160"/>
          </a:xfrm>
          <a:prstGeom prst="rect">
            <a:avLst/>
          </a:prstGeom>
          <a:solidFill>
            <a:srgbClr val="ecddea"/>
          </a:solidFill>
          <a:ln w="12600">
            <a:solidFill>
              <a:srgbClr val="cc00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ppor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’é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H="1" flipV="1">
            <a:off x="5109840" y="3666600"/>
            <a:ext cx="919080" cy="37476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4060800" y="2896920"/>
            <a:ext cx="2872800" cy="3352680"/>
            <a:chOff x="4060800" y="2896920"/>
            <a:chExt cx="2872800" cy="3352680"/>
          </a:xfrm>
        </p:grpSpPr>
        <p:sp>
          <p:nvSpPr>
            <p:cNvPr id="387" name=""/>
            <p:cNvSpPr/>
            <p:nvPr/>
          </p:nvSpPr>
          <p:spPr>
            <a:xfrm>
              <a:off x="4060800" y="3589200"/>
              <a:ext cx="1409400" cy="18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257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800000">
              <a:off x="4092480" y="2896920"/>
              <a:ext cx="2841120" cy="335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841" swAng="5403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841" swAng="5403841"/>
                </a:path>
              </a:pathLst>
            </a:custGeom>
            <a:noFill/>
            <a:ln cap="rnd" w="50760">
              <a:solidFill>
                <a:srgbClr val="ff00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510000" y="4338720"/>
            <a:ext cx="1455840" cy="1514160"/>
            <a:chOff x="3510000" y="4338720"/>
            <a:chExt cx="1455840" cy="1514160"/>
          </a:xfrm>
        </p:grpSpPr>
        <p:sp>
          <p:nvSpPr>
            <p:cNvPr id="390" name=""/>
            <p:cNvSpPr/>
            <p:nvPr/>
          </p:nvSpPr>
          <p:spPr>
            <a:xfrm>
              <a:off x="3958560" y="4759200"/>
              <a:ext cx="35712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34920" y="5211720"/>
              <a:ext cx="1330920" cy="641160"/>
            </a:xfrm>
            <a:prstGeom prst="rect">
              <a:avLst/>
            </a:prstGeom>
            <a:solidFill>
              <a:srgbClr val="ecddea"/>
            </a:solidFill>
            <a:ln w="12600">
              <a:solidFill>
                <a:srgbClr val="cc00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apport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’évalu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10000" y="4338720"/>
              <a:ext cx="1047600" cy="366840"/>
            </a:xfrm>
            <a:prstGeom prst="rect">
              <a:avLst/>
            </a:prstGeom>
            <a:solidFill>
              <a:srgbClr val="ff33ff"/>
            </a:solidFill>
            <a:ln w="25560">
              <a:solidFill>
                <a:srgbClr val="ff0033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ynthè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9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7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6" name=""/>
          <p:cNvGrpSpPr/>
          <p:nvPr/>
        </p:nvGrpSpPr>
        <p:grpSpPr>
          <a:xfrm>
            <a:off x="3131640" y="2896920"/>
            <a:ext cx="3801960" cy="3352680"/>
            <a:chOff x="3131640" y="2896920"/>
            <a:chExt cx="3801960" cy="3352680"/>
          </a:xfrm>
        </p:grpSpPr>
        <p:sp>
          <p:nvSpPr>
            <p:cNvPr id="417" name=""/>
            <p:cNvSpPr/>
            <p:nvPr/>
          </p:nvSpPr>
          <p:spPr>
            <a:xfrm>
              <a:off x="4060800" y="3589200"/>
              <a:ext cx="1409400" cy="187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225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2257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10800000">
              <a:off x="4092480" y="2896920"/>
              <a:ext cx="2841120" cy="335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8" y="0"/>
                  </a:moveTo>
                  <a:arcTo wR="10800" hR="10800" stAng="-5403841" swAng="54038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8" y="0"/>
                  </a:moveTo>
                  <a:arcTo wR="10800" hR="10800" stAng="-5403841" swAng="540384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31640" y="4378320"/>
              <a:ext cx="1474200" cy="45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Valid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5108400" y="3603600"/>
            <a:ext cx="82584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444320" y="2936880"/>
            <a:ext cx="3267000" cy="587520"/>
            <a:chOff x="1444320" y="2936880"/>
            <a:chExt cx="3267000" cy="587520"/>
          </a:xfrm>
        </p:grpSpPr>
        <p:sp>
          <p:nvSpPr>
            <p:cNvPr id="422" name=""/>
            <p:cNvSpPr/>
            <p:nvPr/>
          </p:nvSpPr>
          <p:spPr>
            <a:xfrm flipH="1" flipV="1">
              <a:off x="1444320" y="2936880"/>
              <a:ext cx="3267000" cy="587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50640" y="3002040"/>
              <a:ext cx="1293120" cy="366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Notific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10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2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4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6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4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7" name=""/>
          <p:cNvSpPr/>
          <p:nvPr/>
        </p:nvSpPr>
        <p:spPr>
          <a:xfrm>
            <a:off x="5637240" y="2336760"/>
            <a:ext cx="16938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264280" y="2795760"/>
            <a:ext cx="723240" cy="1586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84889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84889"/>
              </a:path>
            </a:pathLst>
          </a:custGeom>
          <a:noFill/>
          <a:ln cap="rnd"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rot="10800000">
            <a:off x="5281920" y="2222640"/>
            <a:ext cx="1409040" cy="2701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6" y="0"/>
                </a:moveTo>
                <a:arcTo wR="10800" hR="10800" stAng="-5407738" swAng="5403696"/>
                <a:lnTo>
                  <a:pt x="10800" y="10800"/>
                </a:lnTo>
                <a:close/>
              </a:path>
              <a:path fill="none" w="21600" h="21600">
                <a:moveTo>
                  <a:pt x="10776" y="0"/>
                </a:moveTo>
                <a:arcTo wR="10800" hR="10800" stAng="-5407738" swAng="5403696"/>
              </a:path>
            </a:pathLst>
          </a:custGeom>
          <a:noFill/>
          <a:ln cap="rnd"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718320" y="2755800"/>
            <a:ext cx="384120" cy="530280"/>
          </a:xfrm>
          <a:prstGeom prst="line">
            <a:avLst/>
          </a:prstGeom>
          <a:ln w="50760">
            <a:solidFill>
              <a:srgbClr val="cc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r en savoir plu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3086280"/>
            <a:ext cx="9639360" cy="125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lib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univ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-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fcomte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fr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/RECHERCHE/P7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Cumuli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/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cumuli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.</a:t>
            </a:r>
            <a:r>
              <a:rPr b="0" lang="fr-FR" sz="28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ex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veloppement rapide de la F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mergence effective de nouveaux modèles d’apprentissage mettant l’accent su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travail en grou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’autonomie de l’apprena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le développement de comptétences (en + des Connaissanc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Démocratisation de l’Int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limites des systèmes actu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16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D papier ne permet aucun travail de groupe ni développement de compét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FAD en ligne souffre de carence en ressources humaines (Formateurs, tuteurs.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s interactions entre apprenants (en ligne) sont souvent mal encadrées, parfois stériles et en générale sans intérêt pour le grou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sait mal mesurer la progression du grou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ctif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77800" y="1981080"/>
            <a:ext cx="8832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îtriser, évaluer, susciter, coordonner et mémoriser les échanges asynchrones entre les appr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ndre en compte les niveaux de compétence et d’intérêt des différents apprena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érer en ligne la connaissance du groupe plutôt que la connaissance du formateu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s modules proposé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urri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Base de données (profils des acte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ire Aux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nalyse automatisée des questions (LS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valuation des contribu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1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06480" y="5029200"/>
          <a:ext cx="885960" cy="83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64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906480" y="3657600"/>
          <a:ext cx="885960" cy="83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064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974960" y="3733920"/>
          <a:ext cx="885600" cy="83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974960" y="3733920"/>
                    <a:ext cx="8856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050920" y="502920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5092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1486080" y="2562120"/>
            <a:ext cx="3301920" cy="866880"/>
            <a:chOff x="1486080" y="2562120"/>
            <a:chExt cx="3301920" cy="866880"/>
          </a:xfrm>
        </p:grpSpPr>
        <p:sp>
          <p:nvSpPr>
            <p:cNvPr id="74" name=""/>
            <p:cNvSpPr/>
            <p:nvPr/>
          </p:nvSpPr>
          <p:spPr>
            <a:xfrm>
              <a:off x="3549600" y="2819520"/>
              <a:ext cx="1238400" cy="609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125800" y="2562120"/>
              <a:ext cx="1287000" cy="45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ues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86080" y="2819520"/>
              <a:ext cx="6602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5929200" y="2273400"/>
            <a:ext cx="93672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118120" y="2666520"/>
            <a:ext cx="1073160" cy="762120"/>
            <a:chOff x="5118120" y="2666520"/>
            <a:chExt cx="1073160" cy="762120"/>
          </a:xfrm>
        </p:grpSpPr>
        <p:sp>
          <p:nvSpPr>
            <p:cNvPr id="79" name=""/>
            <p:cNvSpPr/>
            <p:nvPr/>
          </p:nvSpPr>
          <p:spPr>
            <a:xfrm flipV="1">
              <a:off x="5118120" y="2666520"/>
              <a:ext cx="825480" cy="76212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6191280" y="2742840"/>
              <a:ext cx="0" cy="60948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0800000">
            <a:off x="4046760" y="1988640"/>
            <a:ext cx="1981080" cy="1518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23485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234851"/>
              </a:path>
            </a:pathLst>
          </a:custGeom>
          <a:noFill/>
          <a:ln cap="rnd" w="25560">
            <a:solidFill>
              <a:srgbClr val="3333c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501920" y="2362320"/>
            <a:ext cx="6273000" cy="1249920"/>
            <a:chOff x="1501920" y="2362320"/>
            <a:chExt cx="6273000" cy="1249920"/>
          </a:xfrm>
        </p:grpSpPr>
        <p:sp>
          <p:nvSpPr>
            <p:cNvPr id="84" name=""/>
            <p:cNvSpPr/>
            <p:nvPr/>
          </p:nvSpPr>
          <p:spPr>
            <a:xfrm>
              <a:off x="1501920" y="2362320"/>
              <a:ext cx="6273000" cy="1218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48840" y="3214800"/>
              <a:ext cx="1472760" cy="397440"/>
            </a:xfrm>
            <a:prstGeom prst="rect">
              <a:avLst/>
            </a:prstGeom>
            <a:solidFill>
              <a:srgbClr val="99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5 items NQ?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"/>
          <p:cNvGrpSpPr/>
          <p:nvPr/>
        </p:nvGrpSpPr>
        <p:grpSpPr>
          <a:xfrm>
            <a:off x="304920" y="920880"/>
            <a:ext cx="1797480" cy="1885680"/>
            <a:chOff x="304920" y="920880"/>
            <a:chExt cx="1797480" cy="1885680"/>
          </a:xfrm>
        </p:grpSpPr>
        <p:sp>
          <p:nvSpPr>
            <p:cNvPr id="88" name=""/>
            <p:cNvSpPr/>
            <p:nvPr/>
          </p:nvSpPr>
          <p:spPr>
            <a:xfrm>
              <a:off x="304920" y="1765440"/>
              <a:ext cx="1168200" cy="1041120"/>
            </a:xfrm>
            <a:prstGeom prst="ellipse">
              <a:avLst/>
            </a:prstGeom>
            <a:noFill/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0120" y="2286000"/>
              <a:ext cx="0" cy="7632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427040" y="1571760"/>
              <a:ext cx="0" cy="1000080"/>
            </a:xfrm>
            <a:prstGeom prst="line">
              <a:avLst/>
            </a:prstGeom>
            <a:ln w="25560">
              <a:solidFill>
                <a:srgbClr val="339933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46000" y="920880"/>
              <a:ext cx="109404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2000" spc="-1" strike="noStrike">
                  <a:solidFill>
                    <a:srgbClr val="339933"/>
                  </a:solidFill>
                  <a:latin typeface="Times New Roman"/>
                </a:rPr>
                <a:t>RetourEtape 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1680" y="1989000"/>
              <a:ext cx="1620720" cy="366840"/>
            </a:xfrm>
            <a:prstGeom prst="rect">
              <a:avLst/>
            </a:prstGeom>
            <a:solidFill>
              <a:srgbClr val="00ffcc"/>
            </a:solidFill>
            <a:ln w="2556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Times New Roman"/>
                </a:rPr>
                <a:t>Refor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2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65880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65880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880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"/>
          <p:cNvGraphicFramePr/>
          <p:nvPr/>
        </p:nvGraphicFramePr>
        <p:xfrm>
          <a:off x="180324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0324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187956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7956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1486080" y="2562120"/>
            <a:ext cx="3301920" cy="866880"/>
            <a:chOff x="1486080" y="2562120"/>
            <a:chExt cx="3301920" cy="866880"/>
          </a:xfrm>
        </p:grpSpPr>
        <p:sp>
          <p:nvSpPr>
            <p:cNvPr id="114" name=""/>
            <p:cNvSpPr/>
            <p:nvPr/>
          </p:nvSpPr>
          <p:spPr>
            <a:xfrm>
              <a:off x="3549600" y="2819520"/>
              <a:ext cx="1238400" cy="60948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114640" y="2562120"/>
              <a:ext cx="1398600" cy="458280"/>
            </a:xfrm>
            <a:prstGeom prst="rect">
              <a:avLst/>
            </a:prstGeom>
            <a:solidFill>
              <a:srgbClr val="ffcccc">
                <a:alpha val="50000"/>
              </a:srgbClr>
            </a:solidFill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w Q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86080" y="2819520"/>
              <a:ext cx="660240" cy="0"/>
            </a:xfrm>
            <a:prstGeom prst="line">
              <a:avLst/>
            </a:prstGeom>
            <a:ln w="255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5826240" y="2273400"/>
            <a:ext cx="1384200" cy="458280"/>
          </a:xfrm>
          <a:prstGeom prst="rect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118120" y="2793960"/>
            <a:ext cx="2070000" cy="635040"/>
            <a:chOff x="5118120" y="2793960"/>
            <a:chExt cx="2070000" cy="635040"/>
          </a:xfrm>
        </p:grpSpPr>
        <p:sp>
          <p:nvSpPr>
            <p:cNvPr id="119" name=""/>
            <p:cNvSpPr/>
            <p:nvPr/>
          </p:nvSpPr>
          <p:spPr>
            <a:xfrm flipV="1">
              <a:off x="5118120" y="2793960"/>
              <a:ext cx="712800" cy="63504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 flipV="1">
              <a:off x="6792840" y="2793960"/>
              <a:ext cx="395280" cy="527040"/>
            </a:xfrm>
            <a:prstGeom prst="line">
              <a:avLst/>
            </a:prstGeom>
            <a:ln w="25560">
              <a:solidFill>
                <a:srgbClr val="cc00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"/>
          <p:cNvGrpSpPr/>
          <p:nvPr/>
        </p:nvGrpSpPr>
        <p:grpSpPr>
          <a:xfrm>
            <a:off x="4046760" y="1988640"/>
            <a:ext cx="1981080" cy="1518840"/>
            <a:chOff x="4046760" y="1988640"/>
            <a:chExt cx="1981080" cy="1518840"/>
          </a:xfrm>
        </p:grpSpPr>
        <p:sp>
          <p:nvSpPr>
            <p:cNvPr id="125" name=""/>
            <p:cNvSpPr/>
            <p:nvPr/>
          </p:nvSpPr>
          <p:spPr>
            <a:xfrm rot="10800000">
              <a:off x="4046760" y="1988640"/>
              <a:ext cx="1981080" cy="151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234851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234851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393520" y="3154320"/>
              <a:ext cx="54936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Lis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5005440" y="3699000"/>
            <a:ext cx="1875600" cy="1319760"/>
            <a:chOff x="5005440" y="3699000"/>
            <a:chExt cx="1875600" cy="1319760"/>
          </a:xfrm>
        </p:grpSpPr>
        <p:sp>
          <p:nvSpPr>
            <p:cNvPr id="128" name=""/>
            <p:cNvSpPr/>
            <p:nvPr/>
          </p:nvSpPr>
          <p:spPr>
            <a:xfrm>
              <a:off x="5914080" y="4043520"/>
              <a:ext cx="966960" cy="97524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Foru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* Ques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05440" y="3699000"/>
              <a:ext cx="876240" cy="666720"/>
            </a:xfrm>
            <a:prstGeom prst="line">
              <a:avLst/>
            </a:prstGeom>
            <a:ln w="507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663560" y="3666960"/>
            <a:ext cx="3151080" cy="2320920"/>
            <a:chOff x="1663560" y="3666960"/>
            <a:chExt cx="3151080" cy="2320920"/>
          </a:xfrm>
        </p:grpSpPr>
        <p:sp>
          <p:nvSpPr>
            <p:cNvPr id="131" name=""/>
            <p:cNvSpPr/>
            <p:nvPr/>
          </p:nvSpPr>
          <p:spPr>
            <a:xfrm flipH="1">
              <a:off x="2820600" y="3683160"/>
              <a:ext cx="1994040" cy="412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2923920" y="3666960"/>
              <a:ext cx="1857240" cy="173052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663560" y="3711600"/>
              <a:ext cx="1160640" cy="2276280"/>
            </a:xfrm>
            <a:prstGeom prst="rect">
              <a:avLst/>
            </a:prstGeom>
            <a:solidFill>
              <a:srgbClr val="99ccff">
                <a:alpha val="50000"/>
              </a:srgbClr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823120" y="5505480"/>
              <a:ext cx="129456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Niveau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200400" y="3940200"/>
              <a:ext cx="13539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14520" y="2175120"/>
            <a:ext cx="6396840" cy="1396440"/>
            <a:chOff x="1514520" y="2175120"/>
            <a:chExt cx="6396840" cy="1396440"/>
          </a:xfrm>
        </p:grpSpPr>
        <p:sp>
          <p:nvSpPr>
            <p:cNvPr id="137" name=""/>
            <p:cNvSpPr/>
            <p:nvPr/>
          </p:nvSpPr>
          <p:spPr>
            <a:xfrm>
              <a:off x="1514520" y="2175120"/>
              <a:ext cx="6396840" cy="1396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27200" y="3274920"/>
              <a:ext cx="129564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Notifie : Liste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3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67788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788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7788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7788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182232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2232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1898640" y="5029200"/>
          <a:ext cx="88596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9864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ccff"/>
          </a:solidFill>
          <a:ln w="25560">
            <a:solidFill>
              <a:srgbClr val="cc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823120" y="5505480"/>
            <a:ext cx="1294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iveau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820960" y="4268880"/>
            <a:ext cx="3078360" cy="335880"/>
            <a:chOff x="2820960" y="4268880"/>
            <a:chExt cx="3078360" cy="335880"/>
          </a:xfrm>
        </p:grpSpPr>
        <p:sp>
          <p:nvSpPr>
            <p:cNvPr id="166" name=""/>
            <p:cNvSpPr/>
            <p:nvPr/>
          </p:nvSpPr>
          <p:spPr>
            <a:xfrm>
              <a:off x="2820960" y="4460760"/>
              <a:ext cx="3078360" cy="0"/>
            </a:xfrm>
            <a:prstGeom prst="line">
              <a:avLst/>
            </a:prstGeom>
            <a:ln w="76320">
              <a:solidFill>
                <a:srgbClr val="cc00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677760" y="4268880"/>
              <a:ext cx="1305360" cy="335880"/>
            </a:xfrm>
            <a:prstGeom prst="rect">
              <a:avLst/>
            </a:prstGeom>
            <a:solidFill>
              <a:srgbClr val="ffcccc"/>
            </a:solidFill>
            <a:ln w="50760">
              <a:solidFill>
                <a:srgbClr val="cc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169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443680" y="2273400"/>
            <a:ext cx="6739920" cy="2536560"/>
            <a:chOff x="2443680" y="2273400"/>
            <a:chExt cx="6739920" cy="2536560"/>
          </a:xfrm>
        </p:grpSpPr>
        <p:sp>
          <p:nvSpPr>
            <p:cNvPr id="174" name=""/>
            <p:cNvSpPr/>
            <p:nvPr/>
          </p:nvSpPr>
          <p:spPr>
            <a:xfrm>
              <a:off x="5826240" y="2273400"/>
              <a:ext cx="1384200" cy="458280"/>
            </a:xfrm>
            <a:prstGeom prst="rect">
              <a:avLst/>
            </a:pr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Evalu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966000" y="2778120"/>
              <a:ext cx="171360" cy="523800"/>
            </a:xfrm>
            <a:prstGeom prst="line">
              <a:avLst/>
            </a:prstGeom>
            <a:ln w="25560">
              <a:solidFill>
                <a:srgbClr val="cc99ff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800000">
              <a:off x="2443680" y="2650680"/>
              <a:ext cx="6739920" cy="2158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61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619"/>
                </a:path>
              </a:pathLst>
            </a:custGeom>
            <a:noFill/>
            <a:ln cap="rnd" w="25560">
              <a:solidFill>
                <a:srgbClr val="ff33ff"/>
              </a:solidFill>
              <a:custDash>
                <a:ds d="499000" sp="201000"/>
              </a:custDash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46680" y="2687760"/>
              <a:ext cx="1031040" cy="366840"/>
            </a:xfrm>
            <a:prstGeom prst="rect">
              <a:avLst/>
            </a:prstGeom>
            <a:solidFill>
              <a:srgbClr val="ffccff"/>
            </a:solidFill>
            <a:ln w="25560">
              <a:solidFill>
                <a:srgbClr val="ff33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Intérêt 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5926680" y="4040280"/>
            <a:ext cx="966960" cy="975240"/>
          </a:xfrm>
          <a:prstGeom prst="rect">
            <a:avLst/>
          </a:prstGeom>
          <a:solidFill>
            <a:srgbClr val="cc99ff"/>
          </a:solidFill>
          <a:ln w="25560">
            <a:solidFill>
              <a:srgbClr val="ff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* Ques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gt; Re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3040" y="609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énario : étape 4/1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743360" y="1943280"/>
            <a:ext cx="3390840" cy="32763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6448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6448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620640" y="5029200"/>
          <a:ext cx="885960" cy="8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50292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405400" y="5791320"/>
          <a:ext cx="885960" cy="83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05400" y="57913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620640" y="3657600"/>
          <a:ext cx="885960" cy="83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0640" y="365760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1689120" y="3733920"/>
          <a:ext cx="885960" cy="83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89120" y="3733920"/>
                    <a:ext cx="88596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1765440" y="5029200"/>
          <a:ext cx="885600" cy="835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765440" y="5029200"/>
                    <a:ext cx="88560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"/>
          <p:cNvSpPr/>
          <p:nvPr/>
        </p:nvSpPr>
        <p:spPr>
          <a:xfrm>
            <a:off x="641880" y="6080040"/>
            <a:ext cx="159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en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34240" y="3451320"/>
            <a:ext cx="7603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i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56200" y="3365640"/>
            <a:ext cx="635040" cy="355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56200" y="3289320"/>
            <a:ext cx="635040" cy="12708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925960" y="3451320"/>
            <a:ext cx="760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Q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743360" y="3390840"/>
            <a:ext cx="336600" cy="304920"/>
          </a:xfrm>
          <a:prstGeom prst="ellipse">
            <a:avLst/>
          </a:prstGeom>
          <a:solidFill>
            <a:srgbClr val="ff3300"/>
          </a:solidFill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14880" y="5927760"/>
            <a:ext cx="1457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906480" y="2438280"/>
          <a:ext cx="885960" cy="835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6480" y="2438280"/>
                    <a:ext cx="885960" cy="8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2" name=""/>
          <p:cNvSpPr/>
          <p:nvPr/>
        </p:nvSpPr>
        <p:spPr>
          <a:xfrm>
            <a:off x="1663560" y="3711600"/>
            <a:ext cx="1160640" cy="2276280"/>
          </a:xfrm>
          <a:prstGeom prst="rect">
            <a:avLst/>
          </a:prstGeom>
          <a:solidFill>
            <a:srgbClr val="99ccff">
              <a:alpha val="50000"/>
            </a:srgbClr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824200" y="5505480"/>
            <a:ext cx="633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2820960" y="4268880"/>
            <a:ext cx="3078360" cy="335880"/>
            <a:chOff x="2820960" y="4268880"/>
            <a:chExt cx="3078360" cy="335880"/>
          </a:xfrm>
        </p:grpSpPr>
        <p:sp>
          <p:nvSpPr>
            <p:cNvPr id="205" name=""/>
            <p:cNvSpPr/>
            <p:nvPr/>
          </p:nvSpPr>
          <p:spPr>
            <a:xfrm>
              <a:off x="2820960" y="4460760"/>
              <a:ext cx="3078360" cy="0"/>
            </a:xfrm>
            <a:prstGeom prst="line">
              <a:avLst/>
            </a:prstGeom>
            <a:ln w="76320">
              <a:solidFill>
                <a:srgbClr val="ffcc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77760" y="4268880"/>
              <a:ext cx="1305360" cy="335880"/>
            </a:xfrm>
            <a:prstGeom prst="rect">
              <a:avLst/>
            </a:prstGeom>
            <a:solidFill>
              <a:srgbClr val="ecddea"/>
            </a:solidFill>
            <a:ln w="507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969696"/>
                  </a:solidFill>
                  <a:latin typeface="Times New Roman"/>
                </a:rPr>
                <a:t>Contrib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410120" y="1413000"/>
            <a:ext cx="11143440" cy="2920680"/>
            <a:chOff x="1410120" y="1413000"/>
            <a:chExt cx="11143440" cy="2920680"/>
          </a:xfrm>
        </p:grpSpPr>
        <p:sp>
          <p:nvSpPr>
            <p:cNvPr id="208" name=""/>
            <p:cNvSpPr/>
            <p:nvPr/>
          </p:nvSpPr>
          <p:spPr>
            <a:xfrm>
              <a:off x="5090760" y="1413000"/>
              <a:ext cx="3819600" cy="2920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285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2859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10800000">
              <a:off x="5102280" y="1507680"/>
              <a:ext cx="3819240" cy="271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1" y="21600"/>
                  </a:moveTo>
                  <a:arcTo wR="10800" hR="10800" stAng="5402859" swAng="539714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1" y="21600"/>
                  </a:moveTo>
                  <a:arcTo wR="10800" hR="10800" stAng="5402859" swAng="5397141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10800000">
              <a:off x="1410120" y="1523520"/>
              <a:ext cx="11143440" cy="2127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39313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393134"/>
                </a:path>
              </a:pathLst>
            </a:custGeom>
            <a:noFill/>
            <a:ln cap="rnd" w="25560">
              <a:solidFill>
                <a:srgbClr val="cc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1" name=""/>
          <p:cNvGraphicFramePr/>
          <p:nvPr/>
        </p:nvGraphicFramePr>
        <p:xfrm>
          <a:off x="5148360" y="3143160"/>
          <a:ext cx="647640" cy="7938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1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148360" y="3143160"/>
                    <a:ext cx="647640" cy="7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3" name=""/>
          <p:cNvGrpSpPr/>
          <p:nvPr/>
        </p:nvGrpSpPr>
        <p:grpSpPr>
          <a:xfrm>
            <a:off x="295200" y="3225960"/>
            <a:ext cx="7768440" cy="1365120"/>
            <a:chOff x="295200" y="3225960"/>
            <a:chExt cx="7768440" cy="1365120"/>
          </a:xfrm>
        </p:grpSpPr>
        <p:sp>
          <p:nvSpPr>
            <p:cNvPr id="214" name=""/>
            <p:cNvSpPr/>
            <p:nvPr/>
          </p:nvSpPr>
          <p:spPr>
            <a:xfrm rot="10800000">
              <a:off x="1359000" y="3397320"/>
              <a:ext cx="6704640" cy="72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1627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1627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headEnd len="lg" type="stealth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548080" y="3225960"/>
              <a:ext cx="1353960" cy="3358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0033"/>
                  </a:solidFill>
                  <a:latin typeface="Times New Roman"/>
                </a:rPr>
                <a:t>Diffusion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0600" y="3664080"/>
              <a:ext cx="1179360" cy="927000"/>
            </a:xfrm>
            <a:prstGeom prst="rect">
              <a:avLst/>
            </a:prstGeom>
            <a:solidFill>
              <a:srgbClr val="99ffcc">
                <a:alpha val="50000"/>
              </a:srgbClr>
            </a:solidFill>
            <a:ln w="255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95200" y="3298680"/>
              <a:ext cx="6332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400" spc="-1" strike="noStrike">
                  <a:solidFill>
                    <a:srgbClr val="33cc33"/>
                  </a:solidFill>
                  <a:latin typeface="Times New Roman"/>
                </a:rPr>
                <a:t>N.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-1684080" y="2616120"/>
            <a:ext cx="6396840" cy="1463760"/>
            <a:chOff x="-1684080" y="2616120"/>
            <a:chExt cx="6396840" cy="1463760"/>
          </a:xfrm>
        </p:grpSpPr>
        <p:sp>
          <p:nvSpPr>
            <p:cNvPr id="219" name=""/>
            <p:cNvSpPr/>
            <p:nvPr/>
          </p:nvSpPr>
          <p:spPr>
            <a:xfrm rot="10800000">
              <a:off x="-1684080" y="2682360"/>
              <a:ext cx="6396840" cy="139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5560">
              <a:solidFill>
                <a:srgbClr val="3333cc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2475000" y="2616120"/>
              <a:ext cx="1295280" cy="275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cc00cc"/>
                  </a:solidFill>
                  <a:latin typeface="Times New Roman"/>
                </a:rPr>
                <a:t>Notifie : Liste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9T06:52:41Z</dcterms:created>
  <dc:creator>Christophe Reffay</dc:creator>
  <dc:description/>
  <dc:language>en-US</dc:language>
  <cp:lastModifiedBy>reffay</cp:lastModifiedBy>
  <cp:lastPrinted>2000-09-20T16:21:55Z</cp:lastPrinted>
  <dcterms:modified xsi:type="dcterms:W3CDTF">2001-07-05T09:17:27Z</dcterms:modified>
  <cp:revision>13</cp:revision>
  <dc:subject/>
  <dc:title>CUMULI</dc:title>
</cp:coreProperties>
</file>