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907588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AEEF-6A6F-48AD-9B4F-EEED35CF9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F356-2AA3-4C6C-8D7B-44D9AA6E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9526-8B2D-4F80-9D33-AAE3A2C21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71C7-C054-4F2B-A651-FEC49A7F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7DFD-CBB9-4B60-A6BF-A619B24F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1226-409F-44D2-915F-2AD95E7F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A8AE-B5DF-4BBC-BE5A-E021E481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E82A-76C7-40EC-8392-C51C90C3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5B1C-BDCB-469F-A613-F171E7C7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F819-8A43-4C08-A101-D878399D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2437-40B3-4F6A-9539-5E14A89E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92FC-C7CE-43D2-86D3-B7D341D2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046F9CE-2FD4-41F3-99B1-3A21BADA6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wm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ib.univ-fcomte.fr/RECHERCHE/P7/Cumuli/cumuli.htm" TargetMode="External"/><Relationship Id="rId2" Type="http://schemas.openxmlformats.org/officeDocument/2006/relationships/hyperlink" Target="http://lib.univ-fcomte.fr/RECHERCHE/P7/Cumuli/cumuli.htm" TargetMode="External"/><Relationship Id="rId3" Type="http://schemas.openxmlformats.org/officeDocument/2006/relationships/hyperlink" Target="http://lib.univ-fcomte.fr/RECHERCHE/P7/Cumuli/cumuli.htm" TargetMode="External"/><Relationship Id="rId4" Type="http://schemas.openxmlformats.org/officeDocument/2006/relationships/hyperlink" Target="http://lib.univ-fcomte.fr/RECHERCHE/P7/Cumuli/cumuli.htm" TargetMode="External"/><Relationship Id="rId5" Type="http://schemas.openxmlformats.org/officeDocument/2006/relationships/hyperlink" Target="http://lib.univ-fcomte.fr/RECHERCHE/P7/Cumuli/cumuli.htm" TargetMode="External"/><Relationship Id="rId6" Type="http://schemas.openxmlformats.org/officeDocument/2006/relationships/hyperlink" Target="http://lib.univ-fcomte.fr/RECHERCHE/P7/Cumuli/cumuli.htm" TargetMode="External"/><Relationship Id="rId7" Type="http://schemas.openxmlformats.org/officeDocument/2006/relationships/hyperlink" Target="http://lib.univ-fcomte.fr/RECHERCHE/P7/Cumuli/cumuli.htm" TargetMode="External"/><Relationship Id="rId8" Type="http://schemas.openxmlformats.org/officeDocument/2006/relationships/hyperlink" Target="http://lib.univ-fcomte.fr/RECHERCHE/P7/Cumuli/cumuli.htm" TargetMode="External"/><Relationship Id="rId9" Type="http://schemas.openxmlformats.org/officeDocument/2006/relationships/hyperlink" Target="http://lib.univ-fcomte.fr/RECHERCHE/P7/Cumuli/cumuli.htm" TargetMode="External"/><Relationship Id="rId10" Type="http://schemas.openxmlformats.org/officeDocument/2006/relationships/hyperlink" Target="http://lib.univ-fcomte.fr/RECHERCHE/P7/Cumuli/cumuli.htm" TargetMode="External"/><Relationship Id="rId11" Type="http://schemas.openxmlformats.org/officeDocument/2006/relationships/hyperlink" Target="http://lib.univ-fcomte.fr/RECHERCHE/P7/Cumuli/cumuli.htm" TargetMode="External"/><Relationship Id="rId12" Type="http://schemas.openxmlformats.org/officeDocument/2006/relationships/hyperlink" Target="http://lib.univ-fcomte.fr/RECHERCHE/P7/Cumuli/cumuli.htm" TargetMode="External"/><Relationship Id="rId13" Type="http://schemas.openxmlformats.org/officeDocument/2006/relationships/hyperlink" Target="http://lib.univ-fcomte.fr/RECHERCHE/P7/Cumuli/cumuli.htm" TargetMode="External"/><Relationship Id="rId14" Type="http://schemas.openxmlformats.org/officeDocument/2006/relationships/hyperlink" Target="http://lib.univ-fcomte.fr/RECHERCHE/P7/Cumuli/cumuli.htm" TargetMode="External"/><Relationship Id="rId1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CUMUL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55240" y="2666520"/>
            <a:ext cx="75121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struction d’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moire du gro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 dan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terac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F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50960" y="59436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hristophe Reffay, LIFC, Janvier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99ff"/>
          </a:solidFill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5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63972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63972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972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170820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0820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1784520" y="5029200"/>
          <a:ext cx="88560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84520" y="5029200"/>
                    <a:ext cx="8856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1663560" y="3711600"/>
            <a:ext cx="1160640" cy="2276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24200" y="5505480"/>
            <a:ext cx="63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820960" y="4745160"/>
            <a:ext cx="3078360" cy="335880"/>
            <a:chOff x="2820960" y="4745160"/>
            <a:chExt cx="3078360" cy="335880"/>
          </a:xfrm>
        </p:grpSpPr>
        <p:sp>
          <p:nvSpPr>
            <p:cNvPr id="248" name=""/>
            <p:cNvSpPr/>
            <p:nvPr/>
          </p:nvSpPr>
          <p:spPr>
            <a:xfrm>
              <a:off x="2820960" y="4937040"/>
              <a:ext cx="3078360" cy="0"/>
            </a:xfrm>
            <a:prstGeom prst="line">
              <a:avLst/>
            </a:prstGeom>
            <a:ln w="76320">
              <a:solidFill>
                <a:srgbClr val="ff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77760" y="4745160"/>
              <a:ext cx="1305360" cy="335880"/>
            </a:xfrm>
            <a:prstGeom prst="rect">
              <a:avLst/>
            </a:prstGeom>
            <a:solidFill>
              <a:srgbClr val="ecddea"/>
            </a:solidFill>
            <a:ln w="507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969696"/>
                  </a:solidFill>
                  <a:latin typeface="Times New Roman"/>
                </a:rPr>
                <a:t>Contrib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410120" y="1413000"/>
            <a:ext cx="11143440" cy="2920680"/>
            <a:chOff x="1410120" y="1413000"/>
            <a:chExt cx="11143440" cy="2920680"/>
          </a:xfrm>
        </p:grpSpPr>
        <p:sp>
          <p:nvSpPr>
            <p:cNvPr id="251" name=""/>
            <p:cNvSpPr/>
            <p:nvPr/>
          </p:nvSpPr>
          <p:spPr>
            <a:xfrm>
              <a:off x="5090760" y="1413000"/>
              <a:ext cx="3819600" cy="292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2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2859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0800000">
              <a:off x="5102280" y="1507680"/>
              <a:ext cx="3819240" cy="271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21600"/>
                  </a:moveTo>
                  <a:arcTo wR="10800" hR="10800" stAng="5402859" swAng="53971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21600"/>
                  </a:moveTo>
                  <a:arcTo wR="10800" hR="10800" stAng="5402859" swAng="5397141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0800000">
              <a:off x="1410120" y="1523520"/>
              <a:ext cx="11143440" cy="21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39313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393134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496880" y="3236760"/>
            <a:ext cx="4402440" cy="1224000"/>
            <a:chOff x="1496880" y="3236760"/>
            <a:chExt cx="4402440" cy="1224000"/>
          </a:xfrm>
        </p:grpSpPr>
        <p:sp>
          <p:nvSpPr>
            <p:cNvPr id="255" name=""/>
            <p:cNvSpPr/>
            <p:nvPr/>
          </p:nvSpPr>
          <p:spPr>
            <a:xfrm>
              <a:off x="4059360" y="3587760"/>
              <a:ext cx="1839960" cy="87300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52280" y="3236760"/>
              <a:ext cx="1305360" cy="335880"/>
            </a:xfrm>
            <a:prstGeom prst="rect">
              <a:avLst/>
            </a:prstGeom>
            <a:solidFill>
              <a:srgbClr val="ffcccc"/>
            </a:solidFill>
            <a:ln w="507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trib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96880" y="3335400"/>
              <a:ext cx="2580840" cy="60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576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5769"/>
                </a:path>
              </a:pathLst>
            </a:custGeom>
            <a:noFill/>
            <a:ln cap="rnd" w="76320">
              <a:solidFill>
                <a:srgbClr val="cc00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444680" y="2273400"/>
            <a:ext cx="8146440" cy="2371320"/>
            <a:chOff x="1444680" y="2273400"/>
            <a:chExt cx="8146440" cy="2371320"/>
          </a:xfrm>
        </p:grpSpPr>
        <p:sp>
          <p:nvSpPr>
            <p:cNvPr id="259" name=""/>
            <p:cNvSpPr/>
            <p:nvPr/>
          </p:nvSpPr>
          <p:spPr>
            <a:xfrm>
              <a:off x="5530680" y="2273400"/>
              <a:ext cx="1679760" cy="45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Evalu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912000" y="2744640"/>
              <a:ext cx="208080" cy="489240"/>
            </a:xfrm>
            <a:prstGeom prst="line">
              <a:avLst/>
            </a:prstGeom>
            <a:ln w="25560">
              <a:solidFill>
                <a:srgbClr val="cc99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0800000">
              <a:off x="1444680" y="2625840"/>
              <a:ext cx="8146440" cy="201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ff33ff"/>
              </a:solidFill>
              <a:custDash>
                <a:ds d="499000" sp="201000"/>
              </a:custDash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283120" y="2660760"/>
              <a:ext cx="1031040" cy="36684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33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térêt 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90600" y="3664080"/>
            <a:ext cx="1179360" cy="927000"/>
          </a:xfrm>
          <a:prstGeom prst="rect">
            <a:avLst/>
          </a:prstGeom>
          <a:solidFill>
            <a:srgbClr val="99ffcc">
              <a:alpha val="50000"/>
            </a:srgbClr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95200" y="3298680"/>
            <a:ext cx="63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N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99ff"/>
          </a:solidFill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6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63972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63972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972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170820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0820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1784520" y="5029200"/>
          <a:ext cx="88560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84520" y="5029200"/>
                    <a:ext cx="8856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1663560" y="3711600"/>
            <a:ext cx="1160640" cy="2276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4200" y="5505480"/>
            <a:ext cx="63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820960" y="4745160"/>
            <a:ext cx="3078360" cy="335880"/>
            <a:chOff x="2820960" y="4745160"/>
            <a:chExt cx="3078360" cy="335880"/>
          </a:xfrm>
        </p:grpSpPr>
        <p:sp>
          <p:nvSpPr>
            <p:cNvPr id="292" name=""/>
            <p:cNvSpPr/>
            <p:nvPr/>
          </p:nvSpPr>
          <p:spPr>
            <a:xfrm>
              <a:off x="2820960" y="4937040"/>
              <a:ext cx="3078360" cy="0"/>
            </a:xfrm>
            <a:prstGeom prst="line">
              <a:avLst/>
            </a:prstGeom>
            <a:ln w="76320">
              <a:solidFill>
                <a:srgbClr val="ff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77760" y="4745160"/>
              <a:ext cx="1305360" cy="335880"/>
            </a:xfrm>
            <a:prstGeom prst="rect">
              <a:avLst/>
            </a:prstGeom>
            <a:solidFill>
              <a:srgbClr val="ecddea"/>
            </a:solidFill>
            <a:ln w="507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969696"/>
                  </a:solidFill>
                  <a:latin typeface="Times New Roman"/>
                </a:rPr>
                <a:t>Contrib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4" name=""/>
          <p:cNvGraphicFramePr/>
          <p:nvPr/>
        </p:nvGraphicFramePr>
        <p:xfrm>
          <a:off x="5148360" y="3143160"/>
          <a:ext cx="647640" cy="79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48360" y="3143160"/>
                    <a:ext cx="6476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390600" y="3664080"/>
            <a:ext cx="1179360" cy="927000"/>
          </a:xfrm>
          <a:prstGeom prst="rect">
            <a:avLst/>
          </a:prstGeom>
          <a:solidFill>
            <a:srgbClr val="99ffcc">
              <a:alpha val="50000"/>
            </a:srgbClr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5200" y="3298680"/>
            <a:ext cx="63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N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56040" y="3335400"/>
            <a:ext cx="3129840" cy="2793240"/>
            <a:chOff x="1256040" y="3335400"/>
            <a:chExt cx="3129840" cy="2793240"/>
          </a:xfrm>
        </p:grpSpPr>
        <p:sp>
          <p:nvSpPr>
            <p:cNvPr id="299" name=""/>
            <p:cNvSpPr/>
            <p:nvPr/>
          </p:nvSpPr>
          <p:spPr>
            <a:xfrm>
              <a:off x="1496880" y="3335400"/>
              <a:ext cx="2580840" cy="60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576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5769"/>
                </a:path>
              </a:pathLst>
            </a:custGeom>
            <a:noFill/>
            <a:ln cap="rnd" w="76320">
              <a:solidFill>
                <a:srgbClr val="ffcc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256040" y="3335400"/>
              <a:ext cx="3129840" cy="279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9" y="0"/>
                  </a:moveTo>
                  <a:arcTo wR="10800" hR="10800" stAng="-5403488" swAng="54034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9" y="0"/>
                  </a:moveTo>
                  <a:arcTo wR="10800" hR="10800" stAng="-5403488" swAng="5403488"/>
                </a:path>
              </a:pathLst>
            </a:custGeom>
            <a:noFill/>
            <a:ln cap="rnd" w="7632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1495440" y="2714760"/>
            <a:ext cx="3286080" cy="809640"/>
            <a:chOff x="1495440" y="2714760"/>
            <a:chExt cx="3286080" cy="809640"/>
          </a:xfrm>
        </p:grpSpPr>
        <p:sp>
          <p:nvSpPr>
            <p:cNvPr id="302" name=""/>
            <p:cNvSpPr/>
            <p:nvPr/>
          </p:nvSpPr>
          <p:spPr>
            <a:xfrm>
              <a:off x="1495440" y="2714760"/>
              <a:ext cx="3286080" cy="80964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841760" y="2798640"/>
              <a:ext cx="2208960" cy="36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oumission Synthè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3975120" y="4476600"/>
            <a:ext cx="790560" cy="822600"/>
            <a:chOff x="3975120" y="4476600"/>
            <a:chExt cx="790560" cy="822600"/>
          </a:xfrm>
        </p:grpSpPr>
        <p:grpSp>
          <p:nvGrpSpPr>
            <p:cNvPr id="305" name=""/>
            <p:cNvGrpSpPr/>
            <p:nvPr/>
          </p:nvGrpSpPr>
          <p:grpSpPr>
            <a:xfrm>
              <a:off x="3975120" y="4476600"/>
              <a:ext cx="790560" cy="822600"/>
              <a:chOff x="3975120" y="4476600"/>
              <a:chExt cx="790560" cy="822600"/>
            </a:xfrm>
          </p:grpSpPr>
          <p:sp>
            <p:nvSpPr>
              <p:cNvPr id="306" name=""/>
              <p:cNvSpPr/>
              <p:nvPr/>
            </p:nvSpPr>
            <p:spPr>
              <a:xfrm>
                <a:off x="3975120" y="4476600"/>
                <a:ext cx="790560" cy="822600"/>
              </a:xfrm>
              <a:custGeom>
                <a:avLst/>
                <a:gdLst/>
                <a:ahLst/>
                <a:rect l="l" t="t" r="r" b="b"/>
                <a:pathLst>
                  <a:path w="498" h="518">
                    <a:moveTo>
                      <a:pt x="0" y="147"/>
                    </a:moveTo>
                    <a:lnTo>
                      <a:pt x="151" y="0"/>
                    </a:lnTo>
                    <a:lnTo>
                      <a:pt x="345" y="0"/>
                    </a:lnTo>
                    <a:lnTo>
                      <a:pt x="497" y="147"/>
                    </a:lnTo>
                    <a:lnTo>
                      <a:pt x="497" y="360"/>
                    </a:lnTo>
                    <a:lnTo>
                      <a:pt x="345" y="517"/>
                    </a:lnTo>
                    <a:lnTo>
                      <a:pt x="151" y="517"/>
                    </a:lnTo>
                    <a:lnTo>
                      <a:pt x="0" y="360"/>
                    </a:lnTo>
                    <a:lnTo>
                      <a:pt x="0" y="147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027320" y="4532400"/>
                <a:ext cx="684360" cy="709560"/>
              </a:xfrm>
              <a:custGeom>
                <a:avLst/>
                <a:gdLst/>
                <a:ahLst/>
                <a:rect l="l" t="t" r="r" b="b"/>
                <a:pathLst>
                  <a:path w="431" h="447">
                    <a:moveTo>
                      <a:pt x="0" y="127"/>
                    </a:moveTo>
                    <a:lnTo>
                      <a:pt x="131" y="0"/>
                    </a:lnTo>
                    <a:lnTo>
                      <a:pt x="298" y="0"/>
                    </a:lnTo>
                    <a:lnTo>
                      <a:pt x="430" y="127"/>
                    </a:lnTo>
                    <a:lnTo>
                      <a:pt x="430" y="310"/>
                    </a:lnTo>
                    <a:lnTo>
                      <a:pt x="298" y="446"/>
                    </a:lnTo>
                    <a:lnTo>
                      <a:pt x="131" y="446"/>
                    </a:lnTo>
                    <a:lnTo>
                      <a:pt x="0" y="310"/>
                    </a:lnTo>
                    <a:lnTo>
                      <a:pt x="0" y="127"/>
                    </a:lnTo>
                  </a:path>
                </a:pathLst>
              </a:custGeom>
              <a:noFill/>
              <a:ln cap="rnd"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027320" y="4532400"/>
                <a:ext cx="684360" cy="709560"/>
              </a:xfrm>
              <a:custGeom>
                <a:avLst/>
                <a:gdLst/>
                <a:ahLst/>
                <a:rect l="l" t="t" r="r" b="b"/>
                <a:pathLst>
                  <a:path w="431" h="447">
                    <a:moveTo>
                      <a:pt x="0" y="127"/>
                    </a:moveTo>
                    <a:lnTo>
                      <a:pt x="130" y="0"/>
                    </a:lnTo>
                    <a:lnTo>
                      <a:pt x="298" y="0"/>
                    </a:lnTo>
                    <a:lnTo>
                      <a:pt x="430" y="127"/>
                    </a:lnTo>
                    <a:lnTo>
                      <a:pt x="430" y="310"/>
                    </a:lnTo>
                    <a:lnTo>
                      <a:pt x="298" y="446"/>
                    </a:lnTo>
                    <a:lnTo>
                      <a:pt x="130" y="446"/>
                    </a:lnTo>
                    <a:lnTo>
                      <a:pt x="0" y="310"/>
                    </a:lnTo>
                    <a:lnTo>
                      <a:pt x="0" y="127"/>
                    </a:lnTo>
                  </a:path>
                </a:pathLst>
              </a:cu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067280" y="4707000"/>
              <a:ext cx="604800" cy="347760"/>
              <a:chOff x="4067280" y="4707000"/>
              <a:chExt cx="604800" cy="347760"/>
            </a:xfrm>
          </p:grpSpPr>
          <p:sp>
            <p:nvSpPr>
              <p:cNvPr id="310" name=""/>
              <p:cNvSpPr/>
              <p:nvPr/>
            </p:nvSpPr>
            <p:spPr>
              <a:xfrm>
                <a:off x="4537080" y="4707000"/>
                <a:ext cx="135000" cy="347760"/>
              </a:xfrm>
              <a:custGeom>
                <a:avLst/>
                <a:gdLst/>
                <a:ahLst/>
                <a:rect l="l" t="t" r="r" b="b"/>
                <a:pathLst>
                  <a:path w="85" h="219">
                    <a:moveTo>
                      <a:pt x="0" y="0"/>
                    </a:moveTo>
                    <a:lnTo>
                      <a:pt x="58" y="0"/>
                    </a:lnTo>
                    <a:lnTo>
                      <a:pt x="84" y="34"/>
                    </a:lnTo>
                    <a:lnTo>
                      <a:pt x="84" y="114"/>
                    </a:lnTo>
                    <a:lnTo>
                      <a:pt x="58" y="148"/>
                    </a:lnTo>
                    <a:lnTo>
                      <a:pt x="34" y="148"/>
                    </a:lnTo>
                    <a:lnTo>
                      <a:pt x="34" y="218"/>
                    </a:lnTo>
                    <a:lnTo>
                      <a:pt x="0" y="2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363920" y="4707000"/>
                <a:ext cx="149400" cy="347760"/>
              </a:xfrm>
              <a:custGeom>
                <a:avLst/>
                <a:gdLst/>
                <a:ahLst/>
                <a:rect l="l" t="t" r="r" b="b"/>
                <a:pathLst>
                  <a:path w="94" h="219">
                    <a:moveTo>
                      <a:pt x="25" y="0"/>
                    </a:moveTo>
                    <a:lnTo>
                      <a:pt x="67" y="0"/>
                    </a:lnTo>
                    <a:lnTo>
                      <a:pt x="93" y="34"/>
                    </a:lnTo>
                    <a:lnTo>
                      <a:pt x="93" y="183"/>
                    </a:lnTo>
                    <a:lnTo>
                      <a:pt x="67" y="218"/>
                    </a:lnTo>
                    <a:lnTo>
                      <a:pt x="25" y="218"/>
                    </a:lnTo>
                    <a:lnTo>
                      <a:pt x="0" y="186"/>
                    </a:lnTo>
                    <a:lnTo>
                      <a:pt x="0" y="34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067280" y="4707000"/>
                <a:ext cx="136440" cy="347760"/>
              </a:xfrm>
              <a:custGeom>
                <a:avLst/>
                <a:gdLst/>
                <a:ahLst/>
                <a:rect l="l" t="t" r="r" b="b"/>
                <a:pathLst>
                  <a:path w="86" h="219">
                    <a:moveTo>
                      <a:pt x="21" y="0"/>
                    </a:moveTo>
                    <a:lnTo>
                      <a:pt x="59" y="0"/>
                    </a:lnTo>
                    <a:lnTo>
                      <a:pt x="85" y="34"/>
                    </a:lnTo>
                    <a:lnTo>
                      <a:pt x="85" y="73"/>
                    </a:lnTo>
                    <a:lnTo>
                      <a:pt x="53" y="73"/>
                    </a:lnTo>
                    <a:lnTo>
                      <a:pt x="53" y="45"/>
                    </a:lnTo>
                    <a:lnTo>
                      <a:pt x="31" y="45"/>
                    </a:lnTo>
                    <a:lnTo>
                      <a:pt x="31" y="93"/>
                    </a:lnTo>
                    <a:lnTo>
                      <a:pt x="59" y="93"/>
                    </a:lnTo>
                    <a:lnTo>
                      <a:pt x="85" y="121"/>
                    </a:lnTo>
                    <a:lnTo>
                      <a:pt x="85" y="186"/>
                    </a:lnTo>
                    <a:lnTo>
                      <a:pt x="62" y="218"/>
                    </a:lnTo>
                    <a:lnTo>
                      <a:pt x="21" y="218"/>
                    </a:lnTo>
                    <a:lnTo>
                      <a:pt x="0" y="186"/>
                    </a:lnTo>
                    <a:lnTo>
                      <a:pt x="0" y="148"/>
                    </a:lnTo>
                    <a:lnTo>
                      <a:pt x="31" y="148"/>
                    </a:lnTo>
                    <a:lnTo>
                      <a:pt x="31" y="175"/>
                    </a:lnTo>
                    <a:lnTo>
                      <a:pt x="53" y="175"/>
                    </a:lnTo>
                    <a:lnTo>
                      <a:pt x="53" y="127"/>
                    </a:lnTo>
                    <a:lnTo>
                      <a:pt x="24" y="127"/>
                    </a:lnTo>
                    <a:lnTo>
                      <a:pt x="0" y="100"/>
                    </a:lnTo>
                    <a:lnTo>
                      <a:pt x="0" y="34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227480" y="4707000"/>
                <a:ext cx="125280" cy="347760"/>
              </a:xfrm>
              <a:custGeom>
                <a:avLst/>
                <a:gdLst/>
                <a:ahLst/>
                <a:rect l="l" t="t" r="r" b="b"/>
                <a:pathLst>
                  <a:path w="79" h="219">
                    <a:moveTo>
                      <a:pt x="0" y="0"/>
                    </a:moveTo>
                    <a:lnTo>
                      <a:pt x="78" y="0"/>
                    </a:lnTo>
                    <a:lnTo>
                      <a:pt x="78" y="45"/>
                    </a:lnTo>
                    <a:lnTo>
                      <a:pt x="56" y="45"/>
                    </a:lnTo>
                    <a:lnTo>
                      <a:pt x="56" y="218"/>
                    </a:lnTo>
                    <a:lnTo>
                      <a:pt x="21" y="218"/>
                    </a:lnTo>
                    <a:lnTo>
                      <a:pt x="21" y="45"/>
                    </a:lnTo>
                    <a:lnTo>
                      <a:pt x="0" y="4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419720" y="4780080"/>
                <a:ext cx="38160" cy="201600"/>
              </a:xfrm>
              <a:custGeom>
                <a:avLst/>
                <a:gdLst/>
                <a:ahLst/>
                <a:rect l="l" t="t" r="r" b="b"/>
                <a:pathLst>
                  <a:path w="24" h="127">
                    <a:moveTo>
                      <a:pt x="0" y="0"/>
                    </a:moveTo>
                    <a:lnTo>
                      <a:pt x="23" y="0"/>
                    </a:lnTo>
                    <a:lnTo>
                      <a:pt x="23" y="126"/>
                    </a:lnTo>
                    <a:lnTo>
                      <a:pt x="0" y="1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591080" y="4780080"/>
                <a:ext cx="31680" cy="91800"/>
              </a:xfrm>
              <a:custGeom>
                <a:avLst/>
                <a:gdLst/>
                <a:ahLst/>
                <a:rect l="l" t="t" r="r" b="b"/>
                <a:pathLst>
                  <a:path w="20" h="58">
                    <a:moveTo>
                      <a:pt x="0" y="0"/>
                    </a:moveTo>
                    <a:lnTo>
                      <a:pt x="19" y="0"/>
                    </a:lnTo>
                    <a:lnTo>
                      <a:pt x="19" y="57"/>
                    </a:lnTo>
                    <a:lnTo>
                      <a:pt x="0" y="5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6" name=""/>
          <p:cNvSpPr/>
          <p:nvPr/>
        </p:nvSpPr>
        <p:spPr>
          <a:xfrm>
            <a:off x="5934240" y="4968720"/>
            <a:ext cx="106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5826240" y="2273400"/>
            <a:ext cx="1384200" cy="458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7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90648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90648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64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197496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496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205092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1" name=""/>
          <p:cNvGrpSpPr/>
          <p:nvPr/>
        </p:nvGrpSpPr>
        <p:grpSpPr>
          <a:xfrm>
            <a:off x="1495440" y="2714760"/>
            <a:ext cx="3286080" cy="809640"/>
            <a:chOff x="1495440" y="2714760"/>
            <a:chExt cx="3286080" cy="809640"/>
          </a:xfrm>
        </p:grpSpPr>
        <p:sp>
          <p:nvSpPr>
            <p:cNvPr id="342" name=""/>
            <p:cNvSpPr/>
            <p:nvPr/>
          </p:nvSpPr>
          <p:spPr>
            <a:xfrm>
              <a:off x="1495440" y="2714760"/>
              <a:ext cx="3286080" cy="809640"/>
            </a:xfrm>
            <a:prstGeom prst="line">
              <a:avLst/>
            </a:prstGeom>
            <a:ln w="50760">
              <a:solidFill>
                <a:srgbClr val="ff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841760" y="2798640"/>
              <a:ext cx="2208960" cy="36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969696"/>
                  </a:solidFill>
                  <a:latin typeface="Times New Roman"/>
                </a:rPr>
                <a:t>Soumission Synthè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 flipV="1">
            <a:off x="5021280" y="2587680"/>
            <a:ext cx="774720" cy="698400"/>
          </a:xfrm>
          <a:prstGeom prst="line">
            <a:avLst/>
          </a:prstGeom>
          <a:ln w="25560">
            <a:solidFill>
              <a:srgbClr val="cc00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5159520" y="2809440"/>
            <a:ext cx="860400" cy="809640"/>
          </a:xfrm>
          <a:prstGeom prst="line">
            <a:avLst/>
          </a:prstGeom>
          <a:ln w="25560">
            <a:solidFill>
              <a:srgbClr val="cc00cc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547280" y="3533760"/>
            <a:ext cx="3233880" cy="1863720"/>
            <a:chOff x="1547280" y="3533760"/>
            <a:chExt cx="3233880" cy="1863720"/>
          </a:xfrm>
        </p:grpSpPr>
        <p:sp>
          <p:nvSpPr>
            <p:cNvPr id="347" name=""/>
            <p:cNvSpPr/>
            <p:nvPr/>
          </p:nvSpPr>
          <p:spPr>
            <a:xfrm flipH="1">
              <a:off x="2820960" y="3635280"/>
              <a:ext cx="1890720" cy="4604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2923920" y="3666960"/>
              <a:ext cx="1857240" cy="1730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957400" y="3651120"/>
              <a:ext cx="1771920" cy="10479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200400" y="3940200"/>
              <a:ext cx="112068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Times New Roman"/>
                </a:rPr>
                <a:t>Diffu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1547280" y="3533760"/>
              <a:ext cx="3208680" cy="133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1506960" y="2683080"/>
            <a:ext cx="2835000" cy="4990680"/>
            <a:chOff x="1506960" y="2683080"/>
            <a:chExt cx="2835000" cy="4990680"/>
          </a:xfrm>
        </p:grpSpPr>
        <p:sp>
          <p:nvSpPr>
            <p:cNvPr id="353" name=""/>
            <p:cNvSpPr/>
            <p:nvPr/>
          </p:nvSpPr>
          <p:spPr>
            <a:xfrm rot="10800000">
              <a:off x="2562120" y="2793960"/>
              <a:ext cx="996840" cy="21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0800000">
              <a:off x="1506960" y="2682720"/>
              <a:ext cx="2835000" cy="230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0800000">
              <a:off x="1516320" y="2746800"/>
              <a:ext cx="2781360" cy="492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92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927"/>
                </a:path>
              </a:pathLst>
            </a:custGeom>
            <a:noFill/>
            <a:ln cap="rnd"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2956680" y="2209680"/>
            <a:ext cx="2718720" cy="458280"/>
            <a:chOff x="2956680" y="2209680"/>
            <a:chExt cx="2718720" cy="458280"/>
          </a:xfrm>
        </p:grpSpPr>
        <p:sp>
          <p:nvSpPr>
            <p:cNvPr id="357" name=""/>
            <p:cNvSpPr/>
            <p:nvPr/>
          </p:nvSpPr>
          <p:spPr>
            <a:xfrm>
              <a:off x="2956680" y="2209680"/>
              <a:ext cx="1879560" cy="4582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ynthèse ok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38560" y="2476440"/>
              <a:ext cx="636840" cy="0"/>
            </a:xfrm>
            <a:prstGeom prst="line">
              <a:avLst/>
            </a:prstGeom>
            <a:ln w="507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688000" y="2273400"/>
            <a:ext cx="1693800" cy="458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8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90648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90648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64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197496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496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205092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6718320" y="2755800"/>
            <a:ext cx="6480" cy="1244880"/>
          </a:xfrm>
          <a:prstGeom prst="line">
            <a:avLst/>
          </a:prstGeom>
          <a:ln w="507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84360" y="3995640"/>
            <a:ext cx="1330920" cy="641160"/>
          </a:xfrm>
          <a:prstGeom prst="rect">
            <a:avLst/>
          </a:prstGeom>
          <a:solidFill>
            <a:srgbClr val="ecddea"/>
          </a:solidFill>
          <a:ln w="12600">
            <a:solidFill>
              <a:srgbClr val="cc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ppor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’é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5109840" y="3666600"/>
            <a:ext cx="919080" cy="374760"/>
          </a:xfrm>
          <a:prstGeom prst="line">
            <a:avLst/>
          </a:prstGeom>
          <a:ln w="507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4060800" y="2896920"/>
            <a:ext cx="2872800" cy="3352680"/>
            <a:chOff x="4060800" y="2896920"/>
            <a:chExt cx="2872800" cy="3352680"/>
          </a:xfrm>
        </p:grpSpPr>
        <p:sp>
          <p:nvSpPr>
            <p:cNvPr id="387" name=""/>
            <p:cNvSpPr/>
            <p:nvPr/>
          </p:nvSpPr>
          <p:spPr>
            <a:xfrm>
              <a:off x="4060800" y="3589200"/>
              <a:ext cx="1409400" cy="187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257"/>
                </a:path>
              </a:pathLst>
            </a:custGeom>
            <a:noFill/>
            <a:ln cap="rnd"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0800000">
              <a:off x="4092480" y="2896920"/>
              <a:ext cx="2841120" cy="335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8" y="0"/>
                  </a:moveTo>
                  <a:arcTo wR="10800" hR="10800" stAng="-5403841" swAng="54038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8" y="0"/>
                  </a:moveTo>
                  <a:arcTo wR="10800" hR="10800" stAng="-5403841" swAng="5403841"/>
                </a:path>
              </a:pathLst>
            </a:custGeom>
            <a:noFill/>
            <a:ln cap="rnd" w="507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3510000" y="4338720"/>
            <a:ext cx="1455840" cy="1514160"/>
            <a:chOff x="3510000" y="4338720"/>
            <a:chExt cx="1455840" cy="1514160"/>
          </a:xfrm>
        </p:grpSpPr>
        <p:sp>
          <p:nvSpPr>
            <p:cNvPr id="390" name=""/>
            <p:cNvSpPr/>
            <p:nvPr/>
          </p:nvSpPr>
          <p:spPr>
            <a:xfrm>
              <a:off x="3958560" y="4759200"/>
              <a:ext cx="357120" cy="45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34920" y="5211720"/>
              <a:ext cx="1330920" cy="641160"/>
            </a:xfrm>
            <a:prstGeom prst="rect">
              <a:avLst/>
            </a:prstGeom>
            <a:solidFill>
              <a:srgbClr val="ecddea"/>
            </a:solidFill>
            <a:ln w="1260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ppor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’éval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10000" y="4338720"/>
              <a:ext cx="1047600" cy="366840"/>
            </a:xfrm>
            <a:prstGeom prst="rect">
              <a:avLst/>
            </a:prstGeom>
            <a:solidFill>
              <a:srgbClr val="ff33ff"/>
            </a:solidFill>
            <a:ln w="25560">
              <a:solidFill>
                <a:srgbClr val="ff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ynthè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9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90648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90648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64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197496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496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205092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6" name=""/>
          <p:cNvGrpSpPr/>
          <p:nvPr/>
        </p:nvGrpSpPr>
        <p:grpSpPr>
          <a:xfrm>
            <a:off x="3131640" y="2896920"/>
            <a:ext cx="3801960" cy="3352680"/>
            <a:chOff x="3131640" y="2896920"/>
            <a:chExt cx="3801960" cy="3352680"/>
          </a:xfrm>
        </p:grpSpPr>
        <p:sp>
          <p:nvSpPr>
            <p:cNvPr id="417" name=""/>
            <p:cNvSpPr/>
            <p:nvPr/>
          </p:nvSpPr>
          <p:spPr>
            <a:xfrm>
              <a:off x="4060800" y="3589200"/>
              <a:ext cx="1409400" cy="187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257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10800000">
              <a:off x="4092480" y="2896920"/>
              <a:ext cx="2841120" cy="335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8" y="0"/>
                  </a:moveTo>
                  <a:arcTo wR="10800" hR="10800" stAng="-5403841" swAng="54038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8" y="0"/>
                  </a:moveTo>
                  <a:arcTo wR="10800" hR="10800" stAng="-5403841" swAng="5403841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131640" y="4378320"/>
              <a:ext cx="1474200" cy="45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alid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5108400" y="3603600"/>
            <a:ext cx="8258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444320" y="2936880"/>
            <a:ext cx="3267000" cy="587520"/>
            <a:chOff x="1444320" y="2936880"/>
            <a:chExt cx="3267000" cy="587520"/>
          </a:xfrm>
        </p:grpSpPr>
        <p:sp>
          <p:nvSpPr>
            <p:cNvPr id="422" name=""/>
            <p:cNvSpPr/>
            <p:nvPr/>
          </p:nvSpPr>
          <p:spPr>
            <a:xfrm flipH="1" flipV="1">
              <a:off x="1444320" y="2936880"/>
              <a:ext cx="3267000" cy="587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50640" y="3002040"/>
              <a:ext cx="129312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t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10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90648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90648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64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197496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496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205092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5637240" y="2336760"/>
            <a:ext cx="1693800" cy="458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99ff"/>
          </a:solidFill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264280" y="2795760"/>
            <a:ext cx="723240" cy="158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488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4889"/>
              </a:path>
            </a:pathLst>
          </a:custGeom>
          <a:noFill/>
          <a:ln cap="rnd"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10800000">
            <a:off x="5281920" y="2222640"/>
            <a:ext cx="1409040" cy="270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6" y="0"/>
                </a:moveTo>
                <a:arcTo wR="10800" hR="10800" stAng="-5407738" swAng="5403696"/>
                <a:lnTo>
                  <a:pt x="10800" y="10800"/>
                </a:lnTo>
                <a:close/>
              </a:path>
              <a:path fill="none" w="21600" h="21600">
                <a:moveTo>
                  <a:pt x="10776" y="0"/>
                </a:moveTo>
                <a:arcTo wR="10800" hR="10800" stAng="-5407738" swAng="5403696"/>
              </a:path>
            </a:pathLst>
          </a:custGeom>
          <a:noFill/>
          <a:ln cap="rnd"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718320" y="2755800"/>
            <a:ext cx="384120" cy="530280"/>
          </a:xfrm>
          <a:prstGeom prst="line">
            <a:avLst/>
          </a:prstGeom>
          <a:ln w="507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r en savoir plu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3086280"/>
            <a:ext cx="9639360" cy="12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lib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univ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-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fcomte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.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fr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/RECHERCHE/P7/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Cumuli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/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cumuli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.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veloppement rapide de la F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mergence effective de nouveaux modèles d’apprentissage mettant l’accent sur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 travail en grou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’autonomie de l’apprena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 développement de comptétences (en + des Connaissan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mocratisation de l’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limites des systèmes actu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162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FAD papier ne permet aucun travail de groupe ni développement de compé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FAD en ligne souffre de carence en ressources humaines (Formateurs, tuteurs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 interactions entre apprenants (en ligne) sont souvent mal encadrées, parfois stériles et en générale sans intérêt pour le grou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sait mal mesurer la progression du grou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7800" y="1981080"/>
            <a:ext cx="8832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îtriser, évaluer, susciter, coordonner et mémoriser les échanges asynchrones entre les appren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ndre en compte les niveaux de compétence et d’intérêt des différents appren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érer en ligne la connaissance du groupe plutôt que la connaissance du formateu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modules propos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urri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Base de données (profils des acteu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ire Aux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nalyse automatisée des questions (LS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valuation des contrib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1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06480" y="5029200"/>
          <a:ext cx="8859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64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906480" y="3657600"/>
          <a:ext cx="885960" cy="835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64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974960" y="3733920"/>
          <a:ext cx="885600" cy="834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7496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2050920" y="502920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09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486080" y="2562120"/>
            <a:ext cx="3301920" cy="866880"/>
            <a:chOff x="1486080" y="2562120"/>
            <a:chExt cx="3301920" cy="866880"/>
          </a:xfrm>
        </p:grpSpPr>
        <p:sp>
          <p:nvSpPr>
            <p:cNvPr id="74" name=""/>
            <p:cNvSpPr/>
            <p:nvPr/>
          </p:nvSpPr>
          <p:spPr>
            <a:xfrm>
              <a:off x="3549600" y="2819520"/>
              <a:ext cx="1238400" cy="6094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25800" y="2562120"/>
              <a:ext cx="1287000" cy="45828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86080" y="2819520"/>
              <a:ext cx="66024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929200" y="2273400"/>
            <a:ext cx="936720" cy="458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118120" y="2666520"/>
            <a:ext cx="1073160" cy="762120"/>
            <a:chOff x="5118120" y="2666520"/>
            <a:chExt cx="1073160" cy="762120"/>
          </a:xfrm>
        </p:grpSpPr>
        <p:sp>
          <p:nvSpPr>
            <p:cNvPr id="79" name=""/>
            <p:cNvSpPr/>
            <p:nvPr/>
          </p:nvSpPr>
          <p:spPr>
            <a:xfrm flipV="1">
              <a:off x="5118120" y="2666520"/>
              <a:ext cx="825480" cy="76212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6191280" y="2742840"/>
              <a:ext cx="0" cy="60948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0800000">
            <a:off x="4046760" y="1988640"/>
            <a:ext cx="1981080" cy="151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23485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234851"/>
              </a:path>
            </a:pathLst>
          </a:custGeom>
          <a:noFill/>
          <a:ln cap="rnd"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501920" y="2362320"/>
            <a:ext cx="6273000" cy="1249920"/>
            <a:chOff x="1501920" y="2362320"/>
            <a:chExt cx="6273000" cy="1249920"/>
          </a:xfrm>
        </p:grpSpPr>
        <p:sp>
          <p:nvSpPr>
            <p:cNvPr id="84" name=""/>
            <p:cNvSpPr/>
            <p:nvPr/>
          </p:nvSpPr>
          <p:spPr>
            <a:xfrm>
              <a:off x="1501920" y="2362320"/>
              <a:ext cx="627300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48840" y="3214800"/>
              <a:ext cx="1472760" cy="397440"/>
            </a:xfrm>
            <a:prstGeom prst="rect">
              <a:avLst/>
            </a:prstGeom>
            <a:solidFill>
              <a:srgbClr val="99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 items NQ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304920" y="920880"/>
            <a:ext cx="1797480" cy="1885680"/>
            <a:chOff x="304920" y="920880"/>
            <a:chExt cx="1797480" cy="1885680"/>
          </a:xfrm>
        </p:grpSpPr>
        <p:sp>
          <p:nvSpPr>
            <p:cNvPr id="88" name=""/>
            <p:cNvSpPr/>
            <p:nvPr/>
          </p:nvSpPr>
          <p:spPr>
            <a:xfrm>
              <a:off x="304920" y="1765440"/>
              <a:ext cx="1168200" cy="1041120"/>
            </a:xfrm>
            <a:prstGeom prst="ellipse">
              <a:avLst/>
            </a:prstGeom>
            <a:noFill/>
            <a:ln w="255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0120" y="2286000"/>
              <a:ext cx="0" cy="76320"/>
            </a:xfrm>
            <a:prstGeom prst="line">
              <a:avLst/>
            </a:prstGeom>
            <a:ln w="25560">
              <a:solidFill>
                <a:srgbClr val="3399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1427040" y="1571760"/>
              <a:ext cx="0" cy="1000080"/>
            </a:xfrm>
            <a:prstGeom prst="line">
              <a:avLst/>
            </a:prstGeom>
            <a:ln w="25560">
              <a:solidFill>
                <a:srgbClr val="3399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46000" y="920880"/>
              <a:ext cx="10940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000" spc="-1" strike="noStrike">
                  <a:solidFill>
                    <a:srgbClr val="339933"/>
                  </a:solidFill>
                  <a:latin typeface="Times New Roman"/>
                </a:rPr>
                <a:t>RetourEtape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1680" y="1989000"/>
              <a:ext cx="1620720" cy="366840"/>
            </a:xfrm>
            <a:prstGeom prst="rect">
              <a:avLst/>
            </a:prstGeom>
            <a:solidFill>
              <a:srgbClr val="00ffcc"/>
            </a:solidFill>
            <a:ln w="255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Refor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2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5880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65880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880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803240" y="3733920"/>
          <a:ext cx="88596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03240" y="37339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87956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7956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486080" y="2562120"/>
            <a:ext cx="3301920" cy="866880"/>
            <a:chOff x="1486080" y="2562120"/>
            <a:chExt cx="3301920" cy="866880"/>
          </a:xfrm>
        </p:grpSpPr>
        <p:sp>
          <p:nvSpPr>
            <p:cNvPr id="114" name=""/>
            <p:cNvSpPr/>
            <p:nvPr/>
          </p:nvSpPr>
          <p:spPr>
            <a:xfrm>
              <a:off x="3549600" y="2819520"/>
              <a:ext cx="1238400" cy="6094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14640" y="2562120"/>
              <a:ext cx="1398600" cy="45828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w Q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86080" y="2819520"/>
              <a:ext cx="66024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826240" y="2273400"/>
            <a:ext cx="1384200" cy="458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118120" y="2793960"/>
            <a:ext cx="2070000" cy="635040"/>
            <a:chOff x="5118120" y="2793960"/>
            <a:chExt cx="2070000" cy="635040"/>
          </a:xfrm>
        </p:grpSpPr>
        <p:sp>
          <p:nvSpPr>
            <p:cNvPr id="119" name=""/>
            <p:cNvSpPr/>
            <p:nvPr/>
          </p:nvSpPr>
          <p:spPr>
            <a:xfrm flipV="1">
              <a:off x="5118120" y="2793960"/>
              <a:ext cx="712800" cy="63504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6792840" y="2793960"/>
              <a:ext cx="395280" cy="52704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4" name=""/>
          <p:cNvGrpSpPr/>
          <p:nvPr/>
        </p:nvGrpSpPr>
        <p:grpSpPr>
          <a:xfrm>
            <a:off x="4046760" y="1988640"/>
            <a:ext cx="1981080" cy="1518840"/>
            <a:chOff x="4046760" y="1988640"/>
            <a:chExt cx="1981080" cy="1518840"/>
          </a:xfrm>
        </p:grpSpPr>
        <p:sp>
          <p:nvSpPr>
            <p:cNvPr id="125" name=""/>
            <p:cNvSpPr/>
            <p:nvPr/>
          </p:nvSpPr>
          <p:spPr>
            <a:xfrm rot="10800000">
              <a:off x="4046760" y="1988640"/>
              <a:ext cx="1981080" cy="151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23485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234851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93520" y="3154320"/>
              <a:ext cx="549360" cy="27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cc00cc"/>
                  </a:solidFill>
                  <a:latin typeface="Times New Roman"/>
                </a:rPr>
                <a:t>Lis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005440" y="3699000"/>
            <a:ext cx="1875600" cy="1319760"/>
            <a:chOff x="5005440" y="3699000"/>
            <a:chExt cx="1875600" cy="1319760"/>
          </a:xfrm>
        </p:grpSpPr>
        <p:sp>
          <p:nvSpPr>
            <p:cNvPr id="128" name=""/>
            <p:cNvSpPr/>
            <p:nvPr/>
          </p:nvSpPr>
          <p:spPr>
            <a:xfrm>
              <a:off x="5914080" y="4043520"/>
              <a:ext cx="966960" cy="97524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or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* Ques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05440" y="3699000"/>
              <a:ext cx="876240" cy="666720"/>
            </a:xfrm>
            <a:prstGeom prst="line">
              <a:avLst/>
            </a:prstGeom>
            <a:ln w="507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663560" y="3666960"/>
            <a:ext cx="3151080" cy="2320920"/>
            <a:chOff x="1663560" y="3666960"/>
            <a:chExt cx="3151080" cy="2320920"/>
          </a:xfrm>
        </p:grpSpPr>
        <p:sp>
          <p:nvSpPr>
            <p:cNvPr id="131" name=""/>
            <p:cNvSpPr/>
            <p:nvPr/>
          </p:nvSpPr>
          <p:spPr>
            <a:xfrm flipH="1">
              <a:off x="2820600" y="3683160"/>
              <a:ext cx="1994040" cy="412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2923920" y="3666960"/>
              <a:ext cx="1857240" cy="1730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63560" y="3711600"/>
              <a:ext cx="1160640" cy="22762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23120" y="5505480"/>
              <a:ext cx="1294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Niveau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00400" y="3940200"/>
              <a:ext cx="13539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Times New Roman"/>
                </a:rPr>
                <a:t>Diffusion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514520" y="2175120"/>
            <a:ext cx="6396840" cy="1396440"/>
            <a:chOff x="1514520" y="2175120"/>
            <a:chExt cx="6396840" cy="1396440"/>
          </a:xfrm>
        </p:grpSpPr>
        <p:sp>
          <p:nvSpPr>
            <p:cNvPr id="137" name=""/>
            <p:cNvSpPr/>
            <p:nvPr/>
          </p:nvSpPr>
          <p:spPr>
            <a:xfrm>
              <a:off x="1514520" y="2175120"/>
              <a:ext cx="6396840" cy="139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27200" y="3274920"/>
              <a:ext cx="1295640" cy="27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cc00cc"/>
                  </a:solidFill>
                  <a:latin typeface="Times New Roman"/>
                </a:rPr>
                <a:t>Notifie : Liste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3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7788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7788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78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1822320" y="3733920"/>
          <a:ext cx="88596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22320" y="37339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89864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9864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ccff"/>
          </a:solidFill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63560" y="3711600"/>
            <a:ext cx="1160640" cy="2276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23120" y="5505480"/>
            <a:ext cx="1294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iveau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820960" y="4268880"/>
            <a:ext cx="3078360" cy="335880"/>
            <a:chOff x="2820960" y="4268880"/>
            <a:chExt cx="3078360" cy="335880"/>
          </a:xfrm>
        </p:grpSpPr>
        <p:sp>
          <p:nvSpPr>
            <p:cNvPr id="166" name=""/>
            <p:cNvSpPr/>
            <p:nvPr/>
          </p:nvSpPr>
          <p:spPr>
            <a:xfrm>
              <a:off x="2820960" y="4460760"/>
              <a:ext cx="3078360" cy="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77760" y="4268880"/>
              <a:ext cx="1305360" cy="335880"/>
            </a:xfrm>
            <a:prstGeom prst="rect">
              <a:avLst/>
            </a:prstGeom>
            <a:solidFill>
              <a:srgbClr val="ffcccc"/>
            </a:solidFill>
            <a:ln w="507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trib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410120" y="1413000"/>
            <a:ext cx="11143440" cy="2920680"/>
            <a:chOff x="1410120" y="1413000"/>
            <a:chExt cx="11143440" cy="2920680"/>
          </a:xfrm>
        </p:grpSpPr>
        <p:sp>
          <p:nvSpPr>
            <p:cNvPr id="169" name=""/>
            <p:cNvSpPr/>
            <p:nvPr/>
          </p:nvSpPr>
          <p:spPr>
            <a:xfrm>
              <a:off x="5090760" y="1413000"/>
              <a:ext cx="3819600" cy="292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2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2859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0800000">
              <a:off x="5102280" y="1507680"/>
              <a:ext cx="3819240" cy="271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21600"/>
                  </a:moveTo>
                  <a:arcTo wR="10800" hR="10800" stAng="5402859" swAng="53971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21600"/>
                  </a:moveTo>
                  <a:arcTo wR="10800" hR="10800" stAng="5402859" swAng="5397141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0800000">
              <a:off x="1410120" y="1523520"/>
              <a:ext cx="11143440" cy="21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39313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393134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99ff"/>
          </a:solidFill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443680" y="2273400"/>
            <a:ext cx="6739920" cy="2536560"/>
            <a:chOff x="2443680" y="2273400"/>
            <a:chExt cx="6739920" cy="2536560"/>
          </a:xfrm>
        </p:grpSpPr>
        <p:sp>
          <p:nvSpPr>
            <p:cNvPr id="174" name=""/>
            <p:cNvSpPr/>
            <p:nvPr/>
          </p:nvSpPr>
          <p:spPr>
            <a:xfrm>
              <a:off x="5826240" y="2273400"/>
              <a:ext cx="1384200" cy="45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Evalu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66000" y="2778120"/>
              <a:ext cx="171360" cy="523800"/>
            </a:xfrm>
            <a:prstGeom prst="line">
              <a:avLst/>
            </a:prstGeom>
            <a:ln w="25560">
              <a:solidFill>
                <a:srgbClr val="cc99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0800000">
              <a:off x="2443680" y="2650680"/>
              <a:ext cx="6739920" cy="215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161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1619"/>
                </a:path>
              </a:pathLst>
            </a:custGeom>
            <a:noFill/>
            <a:ln cap="rnd" w="25560">
              <a:solidFill>
                <a:srgbClr val="ff33ff"/>
              </a:solidFill>
              <a:custDash>
                <a:ds d="499000" sp="201000"/>
              </a:custDash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6680" y="2687760"/>
              <a:ext cx="1031040" cy="36684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33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térêt 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99ff"/>
          </a:solidFill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4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2064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62064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064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1689120" y="3733920"/>
          <a:ext cx="88596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89120" y="37339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765440" y="5029200"/>
          <a:ext cx="88560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65440" y="5029200"/>
                    <a:ext cx="8856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1663560" y="3711600"/>
            <a:ext cx="1160640" cy="2276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24200" y="5505480"/>
            <a:ext cx="63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820960" y="4268880"/>
            <a:ext cx="3078360" cy="335880"/>
            <a:chOff x="2820960" y="4268880"/>
            <a:chExt cx="3078360" cy="335880"/>
          </a:xfrm>
        </p:grpSpPr>
        <p:sp>
          <p:nvSpPr>
            <p:cNvPr id="205" name=""/>
            <p:cNvSpPr/>
            <p:nvPr/>
          </p:nvSpPr>
          <p:spPr>
            <a:xfrm>
              <a:off x="2820960" y="4460760"/>
              <a:ext cx="3078360" cy="0"/>
            </a:xfrm>
            <a:prstGeom prst="line">
              <a:avLst/>
            </a:prstGeom>
            <a:ln w="76320">
              <a:solidFill>
                <a:srgbClr val="ff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77760" y="4268880"/>
              <a:ext cx="1305360" cy="335880"/>
            </a:xfrm>
            <a:prstGeom prst="rect">
              <a:avLst/>
            </a:prstGeom>
            <a:solidFill>
              <a:srgbClr val="ecddea"/>
            </a:solidFill>
            <a:ln w="507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969696"/>
                  </a:solidFill>
                  <a:latin typeface="Times New Roman"/>
                </a:rPr>
                <a:t>Contrib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410120" y="1413000"/>
            <a:ext cx="11143440" cy="2920680"/>
            <a:chOff x="1410120" y="1413000"/>
            <a:chExt cx="11143440" cy="2920680"/>
          </a:xfrm>
        </p:grpSpPr>
        <p:sp>
          <p:nvSpPr>
            <p:cNvPr id="208" name=""/>
            <p:cNvSpPr/>
            <p:nvPr/>
          </p:nvSpPr>
          <p:spPr>
            <a:xfrm>
              <a:off x="5090760" y="1413000"/>
              <a:ext cx="3819600" cy="292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2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2859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0800000">
              <a:off x="5102280" y="1507680"/>
              <a:ext cx="3819240" cy="271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21600"/>
                  </a:moveTo>
                  <a:arcTo wR="10800" hR="10800" stAng="5402859" swAng="53971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21600"/>
                  </a:moveTo>
                  <a:arcTo wR="10800" hR="10800" stAng="5402859" swAng="5397141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0800000">
              <a:off x="1410120" y="1523520"/>
              <a:ext cx="11143440" cy="21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39313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393134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1" name=""/>
          <p:cNvGraphicFramePr/>
          <p:nvPr/>
        </p:nvGraphicFramePr>
        <p:xfrm>
          <a:off x="5148360" y="3143160"/>
          <a:ext cx="647640" cy="79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48360" y="3143160"/>
                    <a:ext cx="6476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3" name=""/>
          <p:cNvGrpSpPr/>
          <p:nvPr/>
        </p:nvGrpSpPr>
        <p:grpSpPr>
          <a:xfrm>
            <a:off x="295200" y="3225960"/>
            <a:ext cx="7768440" cy="1365120"/>
            <a:chOff x="295200" y="3225960"/>
            <a:chExt cx="7768440" cy="1365120"/>
          </a:xfrm>
        </p:grpSpPr>
        <p:sp>
          <p:nvSpPr>
            <p:cNvPr id="214" name=""/>
            <p:cNvSpPr/>
            <p:nvPr/>
          </p:nvSpPr>
          <p:spPr>
            <a:xfrm rot="10800000">
              <a:off x="1359000" y="3397320"/>
              <a:ext cx="6704640" cy="72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162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1627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headEnd len="lg" type="stealth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48080" y="3225960"/>
              <a:ext cx="13539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Times New Roman"/>
                </a:rPr>
                <a:t>Diffusion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0600" y="3664080"/>
              <a:ext cx="1179360" cy="927000"/>
            </a:xfrm>
            <a:prstGeom prst="rect">
              <a:avLst/>
            </a:prstGeom>
            <a:solidFill>
              <a:srgbClr val="99ffcc">
                <a:alpha val="50000"/>
              </a:srgbClr>
            </a:solidFill>
            <a:ln w="255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5200" y="3298680"/>
              <a:ext cx="633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N.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-1684080" y="2616120"/>
            <a:ext cx="6396840" cy="1463760"/>
            <a:chOff x="-1684080" y="2616120"/>
            <a:chExt cx="6396840" cy="1463760"/>
          </a:xfrm>
        </p:grpSpPr>
        <p:sp>
          <p:nvSpPr>
            <p:cNvPr id="219" name=""/>
            <p:cNvSpPr/>
            <p:nvPr/>
          </p:nvSpPr>
          <p:spPr>
            <a:xfrm rot="10800000">
              <a:off x="-1684080" y="2682360"/>
              <a:ext cx="6396840" cy="139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2475000" y="2616120"/>
              <a:ext cx="1295280" cy="27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cc00cc"/>
                  </a:solidFill>
                  <a:latin typeface="Times New Roman"/>
                </a:rPr>
                <a:t>Notifie : Liste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9T06:52:41Z</dcterms:created>
  <dc:creator>Christophe Reffay</dc:creator>
  <dc:description/>
  <dc:language>en-US</dc:language>
  <cp:lastModifiedBy>reffay</cp:lastModifiedBy>
  <cp:lastPrinted>2000-09-20T16:21:55Z</cp:lastPrinted>
  <dcterms:modified xsi:type="dcterms:W3CDTF">2001-07-05T09:17:27Z</dcterms:modified>
  <cp:revision>13</cp:revision>
  <dc:subject/>
  <dc:title>CUMULI</dc:title>
</cp:coreProperties>
</file>